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</p:sldMasterIdLst>
  <p:sldIdLst>
    <p:sldId id="256" r:id="rId159"/>
    <p:sldId id="257" r:id="rId160"/>
    <p:sldId id="258" r:id="rId161"/>
    <p:sldId id="259" r:id="rId162"/>
    <p:sldId id="260" r:id="rId163"/>
    <p:sldId id="261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136-E592-4D3B-BD7C-EA1A5205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AE8-7461-413A-B3B3-7FFFEDF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CEF92-B5ED-4929-B01F-BB1DF1D6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CC05E56-49A0-4975-A5D1-9D9D95D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DE5EBBE-B149-4513-9D1B-CCF430F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4D3095D-8413-47B0-AB7E-A459EA55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9B4BA65-D1DE-473F-827F-17194254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89D818F-8D6C-46E7-B334-663D6CF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8E16E2-CD17-461F-BEA1-E425996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3D3BE2A-97F4-4CF4-9FD5-AE8D6C6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34B4808-02C9-4FF9-AC55-5E9267C1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62A04AF-6F4A-4B73-A0AB-FC5FF6FE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5D35BB0-E91D-4015-8918-6BA51EE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1B7AB-A283-47F0-899D-DCB7439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D2F6575-5C2A-44A9-8331-7B46231A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5F1CC19-B509-44C1-A6B2-B10A69F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48EC475-B666-4144-A1C1-F7872E4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576B984-8F07-4E00-B086-37A8257F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936277A-9B24-47CA-A603-95D78AF9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FD011FD-7459-459C-A60D-B6CD95B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9ED7DC1-53E9-4403-8BD7-C03A0DC9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F1B37F8-88FF-4560-87DB-6948D58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D6C9278-619B-4A04-8B6A-EFA82D4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ACED3E1-3DC8-4CD0-973F-3EE4DAC1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861A8-4793-4B48-AF48-D822761A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FCCE111-0997-42D0-8CDA-7E86C976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223D4E1-CBD8-4C15-AEDB-707C6042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ABBBEF8-35F3-4183-9BCC-BC5474BA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23315C2-CE66-4413-B849-DA8F089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FA273C6-179C-4C53-8290-B704236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312E3F5-35AE-41B5-97FB-2432DBC9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216B227-6F06-4EBF-991C-AA8BB72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1746405-4ADB-4468-9C9E-5B9F300D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2B66406-A211-4FE0-A7D8-910BC35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607D4CA-FE73-4C6B-920B-172EEB1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8F1D0-ACFE-4B1C-9148-BF63D1D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71EEE59-F8BD-49CB-82BF-991C1CE4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FBFC9D6-B2DE-403E-BBEB-57223E7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71D7C64-B619-4660-87A0-10AF7AC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6A60255-DBED-44E1-A755-14016BD3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F22FAD5-9394-4349-B236-592CDF92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1B0162C-80DD-44B2-9FF6-C6F5BB10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C28DB479-D28C-4AB1-8ED4-A29D965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2A7BD61-1AC5-4166-9FEB-D69DAFC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DA6A26F-2655-4F07-AA17-DBA4BC63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0DD5DA6-0F99-40D2-9ABC-F5C1B79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65F0C-401D-4E00-9446-DB63797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E370827-1FE9-4947-B5AB-1ACAFAC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97DF9C5-7FB1-4BA2-A976-7E4338DD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D494346-6578-4D4A-9F06-B3BDC6E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EDFDFA2-F457-42B1-BDA9-51183ABC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128ADC2-B567-4A4A-AF00-DD173C4F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4B1BD88-7EA4-40BA-AEEC-2DB7938B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B929231-B1B4-486C-904B-151F1A38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E495F62-5682-416F-A21F-CE98795E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BCAAC39-F7C2-42E6-8611-FA41390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A13FA2C-6C83-44C8-88DE-1E157EF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C724-C694-4A36-837C-AA26C10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A2ECA31-10AC-41BB-A38D-718C2EF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30487D3-8BAA-416C-86FD-4B75C00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50C1821-3F23-4881-9BF3-F9F34B2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109B2B2-C63F-4E91-A37F-E6683350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66261CF-1A51-4DBD-85DC-8D89D5CF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8F9C3A2-874E-4435-9326-3A1FB7E2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DAB6665-B370-46C2-9E95-7B7DE78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85161BE-AE2F-4474-950A-27457BAC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89088E3-211B-4E60-B89A-4172ADD3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DD1C169-18FC-4EC7-8E40-A2B6475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155C2-1341-48E7-9021-A98F95FA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E5CCD96-1F88-4A7B-97B3-F0DC0AF8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034786C-D363-4BC0-8272-739DA3E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39A6F83-037D-46EB-A2B1-E104796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EC3323C-7388-4FDC-8278-2232719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14764A7-7F38-47B2-BC6B-6C76A77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5FE52BC-797B-4AAD-AF54-B97D6A4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A4D5288-FBB5-47E1-86CC-2D57C675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DE55571-BE49-43D8-80E6-05951C07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0A16F39-3032-452A-84C1-4720D672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72D43BE-48DE-4510-B8CE-40741239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4C77-31D4-4A13-BD08-9023D69B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BC90B4B-59CF-4229-AAD4-E5D2C80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5FADC2A-6D36-4F69-B9A1-0EFC868F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7CF644-4D55-402A-A174-18868D00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235A3B6-0472-4421-BE7B-29007C1B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BDA1660-640D-4DE5-9158-D9323E3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7A463C6-9666-4A47-AB87-2CF73DD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5460AEF-E2D8-456A-9333-D49C533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4E522DF-A5F1-409F-8DF3-48AF1E8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3874A18-2530-4036-A11C-0485917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C996261-BC56-475D-9B7D-F856415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26BC-60B9-43FD-9CE3-C10C7837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F2562DE-975E-45AA-92C1-E7E7FCA2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6C65382D-9130-4FFC-9E0A-C896E2D0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F74341F-186C-40F4-B49E-805DBC78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8874BDD-8B11-457B-B1D3-9116FD0C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C5DAD80-2286-4D3C-8C2E-746F0CD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EF87648-572E-482D-B16C-CDD1D0C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9F86C2D-B782-4504-BEEB-EA03E73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E503A13-78AC-4F9C-A067-226AEA5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7BD2B1D-389A-4F51-A5FE-FF9FC57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560BA237-6C61-43E4-B9E3-F865412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14214-1A39-4DD0-A4D7-8E95061E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C80A4B6-4DB2-4505-9972-4FB1E78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2C7C436-46C6-455D-B0EE-95FEA0A3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75B2EB1-6F2C-446C-BDAC-4B3532AF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C5CD2F8-4643-42F2-B754-73A8CFA1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02AA15E-53B4-40FB-9279-CFA35443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116DEB4-3252-4E3A-A9D0-EF9A82A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E557247-4652-4D9A-A350-74E8AA4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70A0814-FBCB-4FBD-9055-C98C6B5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3922351-550C-490E-805A-3506E7FA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147109B-7266-4807-AA47-29EDAFA1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7AE-A6DE-475D-AF8F-80AD1197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9FC3C-8352-4E7D-8C8F-9C3476ED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02AAED9-9297-420C-97BD-322D567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B0997B5-BCBE-48E6-BB0E-E71B14B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90B16AB-AF71-42D2-83AB-E168871B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9499813-4A3E-4A8A-B47B-BB93134E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0CA8DFF-645A-4803-8A5D-F281B850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1EE1295-F1ED-4024-8585-24A5D7AB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723153A-80E6-4E2C-B82F-D30DD78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45BB2B3-2420-41FB-9C92-0952942B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0585BDA-08DE-4E98-9723-F1152EF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3537C8B-01D4-40AC-A369-9E9B2F1D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117F1-AAA6-4F38-B6A9-300F7E2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590B6F9-6314-4522-87B0-028F071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5E4AA2A-01B9-4E45-A138-35A39569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CF147FD-1EAF-4361-B2AE-42A3DF7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72ED83B-CC26-4753-B36E-37CB687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4F0295F-E12B-443D-A827-B977CEE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3426757-46EB-4E7A-9AD6-BBEC529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30894C3-F548-4439-BD33-D71BA689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CF6668B-5A42-4310-8C26-0C56649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DC15EE78-9340-4F15-B510-12E80648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0D69780-9F86-4259-AFFE-80243E6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3B45F-9E26-4E99-B0B6-06B4C194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3082FA0-2017-4EE6-BECF-AF24502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C529190-4191-4117-AEDA-57AAF03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737D6BB-8062-4A99-AE93-1B61B4B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24AB2BB-2980-4262-A56F-4F52130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4AFF94E-F567-43DA-A4A5-D2AFFE6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18F047D-5A1F-41AF-93A6-637E854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42C91A7-879B-4999-A030-17DFFF73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439B416-F379-4571-BECD-FE5E0276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2C911DB-4204-4AB2-BFED-FE8A9D39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8367C11-2ABB-4C72-A734-33D976F7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9942C-DE3D-4C86-9A98-BE89F3F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309FD6A-3B78-4AA8-843C-EE94B1BE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F5859AF-6CCC-4ACE-9D57-3AB71DC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2483753-2E1A-4305-B2C3-9E3D04A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9DBF28C-C054-44EE-8AC0-2476BD3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7FCC450-4CC0-40E1-B990-21E2370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EAD7467-BD5A-44D1-AEE4-D1EE401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1F7F345-6A30-40A5-B47E-0DDFB1E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05CFC23-77DC-472F-9881-A29DDFEA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DFBF047-3677-4CF2-89A8-1E2930AB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38939E8-371D-4BB3-AE2E-EC6EDEF9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E5760-C811-43A3-9697-F63FC8ED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58F6628-2DDE-4032-B057-552741DD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3714DBA-A4AD-411B-8874-0AC293A1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5776B24-8FCA-4BA3-B60B-8CFD71F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21C9F81-9772-42AC-B91A-482B17C6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DC98C0B-3BEA-41CC-A8FB-A3ADFD0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55B1E00-5AD2-4912-8EDA-01DFA84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2C4B423-6D06-46E7-85CD-E1305A8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EABDE08-FF14-4543-AD01-902B485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C48EA6F-7713-4ADC-B7C7-43F4C82B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BDDEFB3-121C-4213-AFF9-48512DFE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26E12-1544-4458-8A6C-81D05067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6D6A1D2-29F9-461A-8560-1D0D4E9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5334400-B950-4E4B-B44F-A4C4D573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6DD2CFC-1634-43E2-9C60-A9B47AC1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2A5166D-D0A9-4CFE-B39F-95DD2C02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3A7A8C1-BED4-408A-ADEC-93F83D8B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89D6F29-7912-428C-B617-53F7C53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25374EB-CECB-4695-93C4-7EA8C466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50D3A14-6EE0-4374-B0E8-71043EB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6849B73-2335-4696-845D-5B756883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3D82940-F7C4-426F-8A6F-ADD663B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8B934-F40A-48FF-B43C-DA1AB463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A94B742-5417-464E-B772-D573226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9087A7C-1767-467D-AC73-B780308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090AC39-FFD9-41A5-8948-D15653D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3F8E8EE-3C17-4A28-A47F-3C748CA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80FB096-26F4-46FB-ADB7-5240F762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63A291E-A9A2-41D2-9D06-FB4E4761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78AD6E3-4668-48D7-81B7-1129073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5DE48C3-4064-45C2-ABEC-EB05A175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75038A9-D9B2-44A3-AE86-7DBFF7A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7994BAD-9A7E-4C44-8BC5-545D1A5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0DD68-D323-41B8-BC1C-1D2552BC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18F1FF9-0A12-4D55-8164-A187CCE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38D9CC2-C0FE-4B0D-A743-E45CB2F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7DA0C4B-0DB2-4BB2-BAC9-7E4D12E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F3D65A3-FB29-48AB-AF22-87B33FF4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F149E5C-1BF6-4719-9634-9FE56B9E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B49A1F8-9443-4F09-BEB1-A409F59C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C65675E-7A04-4032-8DA0-82B13EE9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BC832DA-47EB-427B-A4B5-9D1B2E8E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4E307A9-44A9-42E5-8CFB-EEFFB5D0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0504ACE-2167-457B-B36B-5C505D9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4F8C5-F844-4FA4-84B3-098D5C3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1E97C67-C1FE-4A77-AEE7-177E8D1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9B9F478-C9B6-492C-8856-5DE8EAB8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C84235F-1856-4E33-81BE-B3093EB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C490D86-4DB1-4382-B395-10C19B6B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8034F71-2A9B-4267-89D0-B914A75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911C140-DEFC-4BB2-A4D1-9A1EA06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CC9B9D7-30CE-4372-A6EB-A0B9A978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24C67B8-2D85-49A0-AAD1-B2D46EE0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DF31660-ABE4-4551-87FB-5A9CB2A1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C8BECE9-49AC-4D68-B494-547620F2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A5C3F-F7E1-4BD0-801C-4BC20BDC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F0DA250-FD41-43DA-B1B3-0417B2E2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ED7236B-257F-4228-9902-31A500C3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1AE9E2B-C448-420D-B8ED-FFF3CDB7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F076B03-D47C-4C24-9524-8CB954FE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0FC92B7-1005-4590-B84F-6793CC5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AD8A97F-BE05-4FE8-8A31-7E377A1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EE62687-5BF7-4D3F-8E0F-6FD604F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FF70959-96F2-49B0-81E0-E2F6A08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CF60246-7841-41D8-890F-B4F522BC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8E73279-B130-4554-81AB-2E044E5A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A81-C413-4C4A-83CD-8BD32EF4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F6828-6931-4BDB-A167-0051F65B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7FA41EF-32CC-4F86-A065-1CAEE004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1887313-7CE5-4528-9864-ED856A2F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6CDE609-092A-449E-9401-36338F41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4D0ABEC-B830-45F5-9E31-4CCF7EF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65F4FB4-F3FA-4C41-8F25-C869B26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F59860D-3F4D-4E1D-BD3A-32EC17C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1C77190-3AA7-46BB-BCAC-47D5D7DA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91367A4-E147-495C-B480-8FFF0D3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048019C-749A-45D0-8BE5-3E920E3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6EECF8E-1134-42C4-99BE-8B79EEC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552E7-FB6E-440B-AC97-8FCA55B6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868352E-E2DC-4730-8213-6F3FEBF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439E1A3-968C-4384-BAF3-E7C4769E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544C33C-01A5-4F6B-9159-8DFE992A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A77FD81-750F-4D97-8B75-68E3CDDB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74173CA-4B2A-4B9D-9323-8C1F56E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1B76CC7-225E-46A4-8D0A-FA49BCDF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110E4A5-8FDA-4830-AEBD-74ECBA9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3BCE070-784F-4FB9-845B-67558B92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83D55FD-0B93-447A-8A37-2204E27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2B4AFEB-A768-48A2-B7BB-158F7D2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5C7C-F3BF-41E3-933D-6EC6666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DF5FE4A-0A25-464A-9F5C-B3AE037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724A488-702A-4E27-A951-D036B54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ABF2308-6CDF-4B25-AC05-5F8660E8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F15C7BC-D281-4C72-A968-30D579B4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0394CAD-F61D-474D-9080-BA65950C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1C1A4FD-C238-4D3E-9C0E-A795BDA5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D98BAE0-815E-441E-9A37-6C9C2A1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E3B4E35-ED2A-4179-883E-07A0F301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F419FF0-BAA1-44ED-BA29-BD550C5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61A603E-0BE2-4BC4-AD09-3B4C080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7430-F3F8-4C70-BC2E-5A7D12B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AC8F95C-E1C5-4F96-BD36-0CDAF2C3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EC660D4-65DB-4612-8FCB-B11F9AC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3CA22A8-E1A7-4EA4-8F36-6B1CAA4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12A7A4B-A736-4EB4-9A2D-A42F1E9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44F9D89-4257-4390-BFAB-3E01F31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830E58E-6A9F-4578-B075-E45C126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5CCAAE1-931F-4CFD-B61A-95589C83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4A76E6E-9451-4DD0-844E-3730BEE3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D7C988B-9DC9-4367-B4CC-E1956307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5AA8C54-D30D-449A-A995-7F6604DC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F2E6F-374F-467B-AF62-E1EE07A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315F2F8-6E45-4A97-8FF0-452053A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686B6EF-54D8-4970-95C5-F92CC586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8C46A20-6C8D-4DA7-B9EE-E6FC958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712F177-ED26-43B9-8831-13805E9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B7D2A7B-DC09-4E78-A04D-06B1E27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AA9725F-82D5-43E2-AE67-014010E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70CC235-37BF-42C9-830B-803F3A5E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53EB7E2-BC87-4CE6-A532-4B594375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46800BC-8D44-42AA-87B8-70A5613F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DE5A560-907C-4523-933E-1076ABB2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10F5F-0CE8-4C0A-8D0E-FBB6F80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1C4700B-9F40-4CAC-AFD3-08014519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55010B6-64B0-473F-925A-2AD2278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CEF6ED5-A106-4FED-A9B1-8D72739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4E1712D-3BDA-438F-ACC9-B73610BB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CB7984A-6182-4CEA-8F48-FD39517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D300CF8-B347-4B21-9CB7-957740E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BF5C7C7-ACBC-456E-B8F0-D956EAC2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129BA8F-6C25-4422-9C0E-F822D37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19ACE76-D28E-4BCD-908C-DADAD4D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58596EA-C5D8-43EA-B491-68F0C346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73B6-255C-4201-982F-40D4C174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AC38CD6-6683-45C1-9FF3-98A12AC3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67D5C02-C598-4BC0-AE91-B1E8761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83DB62F-FE90-47C2-8E24-9F5829A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8F7DB96-32CD-422E-B784-126B1D0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E172AFC-5F38-4DE4-A59F-BC11020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8EA5EDF-4FE9-4F7A-AB63-4479E90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B75B140-A1F4-4129-8A3F-A1D519FA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69FA14C-E74E-46BB-BFF5-3C01902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1A38BE7-CE59-4730-A30C-759CB7F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009F90F-3F70-474D-8B77-67D6B58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DAAB-436F-4B41-A89E-3E80201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5568059-1238-429E-BC27-D6056D0F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288395C-DE66-4012-837E-ABB66576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9739B24-3C84-400E-8025-7019A9B8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30D6418-7F37-4F3B-A3C1-947B4B2C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2931075-42E5-48A5-A401-4AFA142F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F851C61-E5C2-4049-B2BC-641DAB2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8AC4AE2-3F15-42E7-876F-134FD823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AC0C4B9-D752-4143-A48B-687001C7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EE2C27E-D03F-4A65-81EB-6DA6205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CFCD133-C1D2-4106-8739-2F89FA0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7DAC-405E-4FD2-8668-9F7E8F4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38CA89F-1B6C-4F85-8F85-B33EDBF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19C1E1E-9C82-49EC-9EFA-9ECC5C1D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032B6C7-9002-447A-86CE-C8C76CA8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7CB86C7-8E46-455B-82C8-61EDF07D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1582E1A-38EB-4993-BBE4-72DE1F27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7CF495D-09F2-4D4C-873F-B46C7BD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E065968-2D02-4AA5-A849-4C7EDDC2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D693148-0090-4D7C-B62E-FFC3BC8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3943241-BE56-4F72-86DA-7FC53BC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860504C-15EA-4354-9A86-46F63AF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F4655-2D30-481C-94DA-444B963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664DCC5-4004-4820-9B87-F1C9A72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1468B1D-4296-423F-B8DD-D01CA49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01A6D82-AE03-4BA6-ABED-2D211CB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0184D7B-391A-49B2-A9F5-7E0F6C4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4AD0C63-6E8B-45A6-99B3-A992F925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C58F27F-D915-498C-8905-0FF622B0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2DFD166-A8A2-4E5A-9CA4-839B2A84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58213C0-AF4B-417D-8EDD-75590885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AB1D3AF-CB05-47BC-8935-4E69054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4C4EDF0-219E-4B1E-BCC3-5FC5ECF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2A7-503F-4ADA-A46B-9A48422F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F0404-A613-4ECA-BC74-3A863FA1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F202B89-CC6D-419D-A7C2-CCBF99C5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7728879-CDEC-4B3E-8DD6-2895C7F1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A4D83F7-BC0B-4D86-B7C9-AA5062D7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2501BAF-BE47-4015-B477-2885078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2105071-823C-4461-9A36-3D6E3B6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A62CA63-9FAD-4F04-A543-28286DDB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C21AC9C-A50F-49A0-B6D4-400DE565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B33B872-F855-405C-A4F9-164F19FD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9334A28-C38D-48DA-902D-DED289E8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72D48BA-EA2A-4AA5-A0EA-6670C957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DFEA2-0CB2-4597-AFA7-583809F5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C95CBA3-599F-446D-BD05-D4DB1EB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A059EF8-A8C0-4BD7-86D7-7DF91E4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11AC2D4-1DCC-4F82-9034-CEB76B5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AAE3727-DB47-479F-A3B6-46EF0DE6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E0A75EA-5065-4DB3-92F6-45591249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BFE76DD-CABD-4518-94C2-3A384AC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2B8FF66-D2C7-4B8B-9CB0-EB3D691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14FA08E-7734-4F79-8FE0-889799F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71955A8-F833-4126-A544-C5DA050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EE8B496-5F32-4315-A7B6-75E1F449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33F5-E43E-43C1-A91F-16F597CE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EB2AFD6-5763-4632-A039-78BFEB3C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9DFA460-1115-4275-A246-D11495F7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F7734A5-D5E9-4CF9-A320-983FEEC3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042A2E5-7CDA-4926-993D-1B17425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069C97D-96D8-4955-A589-D6737BE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27E240B-5F86-4AC3-9E57-83B01C4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B333036-1761-43C7-ADE0-057FA453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1B6429D-8B9A-4A9F-B519-788C1471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3997509-59B7-42E3-96F2-4FBAB09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EEA8F34-4125-4EF3-BF8C-8C58536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8E6C1-90A3-42DC-8BFD-C4C1C83B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26FEAD3-F285-428E-B67B-87A7886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BFA9A2E-E009-4EA0-A99A-C106FFD7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130472A-1956-42B0-B71F-2EBC0597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E31B772-26BC-4470-B172-C0571A80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50AADEB-7DD3-4D3D-B378-68C14A3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2EDAB53-6C71-47CA-BF7A-50F12F1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BA4176C-2BB1-4E1A-ACBB-F7E98BA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A61B296-757E-4D9C-AE45-9406E6D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BB3C2E2-415D-4856-9EBC-14B63995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643D812-7EF0-41F8-83E2-096FBA4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722C-8842-4816-8311-B4D1D54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83AC1B8-DC15-41EC-B760-8A36E8E4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9C602EE8-D519-47CB-9082-310F191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159BB7A-6A58-4A0D-AC7D-158F10E0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338BA57-6E8E-4868-B23E-E6DFC528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D9D6620-3B3E-4DEC-BCCA-2E50D61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4B45D43-A90B-4A43-9C3E-BCD07621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9925D9D-C3AD-46C0-B60A-0DBCB084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27D0625-9AB0-45E6-B82D-E73C696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EB49FE8-4B94-4DE2-BD79-2F0FF81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345B732-9244-4E91-A392-F92BDF2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61AF5-8116-43A8-9C2E-9A10A02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45B442E-FB94-488F-98B4-8A7C9FF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0E20E05-E066-40B0-961C-AF17DC0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8D706C9-4B08-4C22-9F17-1DA521D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1A0B215-CB30-4DA8-B826-AEF39B3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774CDA6-E03F-4663-8F1C-F1415C9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BA3B4DB-10E7-4EBE-8C0A-F8479ACB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8388919-943D-409C-A5C4-5A08EAA5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19BC2C5-7A6C-41B8-97EF-E168CB5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B4AE8BB-065B-44AA-836F-8835FBA0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D60EB41-C86C-4AC1-AE8D-C10D53F4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2A8F6-995E-49AC-8FCC-7D9045B7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58DD0B2-4DCB-4DB3-B8D5-5222D1D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D6B1FB2-6CB8-4BDA-9AE2-905E710A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9195096-943A-4B26-A2EA-4BA0927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87FC673-644C-412B-B9DE-D8C824B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771470B-F7E6-41FE-9986-009E79A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6A15762-7E69-4E26-88AA-702D9BB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51D19F0-3A62-4E19-9CFF-8F28077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38A0D24-D5FA-47A2-B6EF-D07EF782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6CA77A5-B378-4809-8B4E-5D5CDAF1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8278829-8467-46A2-A5DE-637A8939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8D011-FD6E-43CE-9BB7-BD0856D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AA90847-07B4-4D1E-8AEB-C4228E10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CB8BE4C-3F67-4983-9F84-57A7CAC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BEC9EB4-EF63-4BC1-A8F2-33EDB29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8BFDC9D-1D2D-4EAB-BD30-C968E23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15463B7-C269-4352-8E4C-1C49FE8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0CFBA49-F4DC-425B-AA53-C7C2FAAE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5BE2361-AF6A-40C6-8DB4-6FFD8D7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7E24935-EA99-492F-A00E-0B6E7CB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11729DD-5648-467E-B49F-C7AC814F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0E88696-559B-4F34-BEA5-F43236F0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B5877-90B5-45C9-B7E2-6648B3AF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1B4A0AB-E017-46FA-95FD-081532AD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82893EB-B237-44A4-B02E-46036784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49F6199-A8B8-4D63-A034-1ABF139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9058D65-AFF2-4E9E-BB33-7A95E5FA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66EA5BA-53FC-4ED8-8DF8-3A04AEE3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0EECD9C-EEEC-4B47-AE30-A1C77F0B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DC4E164-B767-4656-88C6-AF1B10D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1DEAF7BF-B751-4E5F-B127-59E8169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68E2745-10F3-4A42-96E1-67A745A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829FDD2-8C6E-4DF1-A3BA-A743D23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53E19-91F4-49AF-AB08-E370760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ED44EFF-5B12-485E-80C9-D0332E6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1949505-B713-41B5-AC9D-1B0DC765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49A47AC-7144-429D-BB87-3B61773B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EEDE8D8-7A14-4822-8D82-98008D2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C109F88-7236-4652-A88F-BAC517FF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1128571-2652-4B55-8A93-EDA9FA6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22FF997-9D65-4A02-AFD4-2DD36B1A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6728D91-0364-493D-AE7E-F5B92A0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F884C76-D7FE-4BB5-9F8D-3BDC4B1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7441438-7400-4E5B-84ED-9D21BAD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10C-5F36-4E54-9C78-D82E5EC7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E4195-892E-4450-B248-DCBA52C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A31FA2C-4214-4802-BE25-11D8715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A58338B-0FD5-467F-8A2E-1F2B669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E0C9C69-16E2-43E2-930E-5358518A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95C9FC8-6879-4D94-870C-3D680C70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BE91532-6846-4E37-AD0B-B61CF4B1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1F6BBE0-A63A-43C8-AF41-4E56AAF7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0877563-22A7-4AAD-816F-67A9803A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A1ADE12-4BF6-4CF5-9D9F-BB3F2B05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BEFC91E-109C-4577-9AE1-71CF917B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789A425-ABF0-4833-ADE1-10F25CFB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7719D-A1C6-4663-8BA9-CBCB01A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7041C5C-1ED7-462E-AD46-4C4D9C3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41479C9-28C4-4FDA-A347-AE2FDC7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CB6CEE5-569C-4DC3-82EB-835E274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DCCF57B-3320-402F-BD8F-449540C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13F3364-E313-4829-BEEA-873075A6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F49EB79-013C-4C55-BFF4-1C037278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394C8DF-4DAB-4962-B829-68CBB53A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6586423-5395-429C-9414-9CF5E3B1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828EA8C-D356-499B-982A-6492B295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BD37A9C-6452-49ED-9838-401F838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C84A3-0C2C-4DF4-81EE-58904B98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0E25F40-A563-47F0-B844-7A6691DD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23D97E4-683C-4E57-9671-CA60DBD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C39CCBA-26D3-4677-820A-D7210F1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974B626-630A-4AF9-A21B-DE7B53B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353B67E-E904-4AB2-B619-F24A20F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77D892E-E7DA-46CE-869C-B4834DC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6AFCAA6-02B5-426E-82E3-36598D4B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3C79E2E-333E-40D9-8080-4B7F6888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10625D5-0380-4ECD-907E-77649602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D6D4337-E8BE-4AF6-B928-3AFD93C2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E0249-9745-43B2-999C-6FB23AD3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4F7460E-C93D-47A4-8F66-4A5D8722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E4E65B1-F562-4581-BC46-9D89912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FD3B779-D5CC-4BDE-83F5-78F52394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0B3E5D8-157C-46AA-862F-D976B025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E28FC02-344A-4BAF-8F69-B5442B3B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C84BE40-252B-4865-841F-9A6987E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BBA2A4E-4B4F-4C19-B66B-7BABE4F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F1DB456-01B6-4FF9-A862-F04CC83D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8485852A-EF06-4F09-A13E-242AEDDD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87DF1FC-2DE9-438A-9C9A-69597D19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1EA7C-0328-4598-93A8-C29419FC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A6EC2C0-4A8E-4CF2-8AF0-E364FD49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7A0E334-E353-4152-84E6-AF1CA394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3804301-A719-47F2-B582-AD5C3D76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C22D8D0-DE5F-489C-A96F-9ABA2F3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511827C-5566-42D8-A78E-4D23E3B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AEA3878-FBDE-442D-A4B0-3EC0343F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2C86BCF-A60A-459B-B5FD-ECE9E585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DD5907C-9466-44A4-9F91-71C9195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13148EC-CF20-4E9B-8B20-7EA17CB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03E3331-55FA-42A6-AA10-C42AE43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9A605-2BE2-4E3F-90A9-B3D645EC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B506F13-7938-45FC-B8DB-3D398CE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F7416AC-6BC3-49D3-B7C9-E967918D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AB593FA-0B29-4E9D-BC76-A056DF54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8AE1077-0131-4D17-9D12-CCE2507B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6D50DDE-A9D6-4EB7-B8FB-1FE53A3A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59BF9AC-424F-4118-BE65-0309251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54CF9DF-6E44-4250-8068-58CD1D3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DE894F8-6D1F-4F39-9381-6658B971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3040AEE-14A5-4FE6-B77F-9FA3BBD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49DBB7A-C4A7-44B3-946E-3DD6C44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77514-2DC9-4C5A-AFA9-4C97F23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D8DD989-2066-408B-B416-37A93F4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874C7CE-7150-4D8A-8F50-384EBE7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505E842-16F5-4257-873D-A1FA60D6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F9091B3-B4F3-45CF-93C0-05270A17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8C70A722-8A95-4E48-A0CE-2414573B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2BB7A58-BAE3-45F1-B47C-108B8011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F4B6867-0A7C-4325-A2C8-9552902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A4A82B3-F54B-4F00-871A-53D46BC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32F98F0-4335-49C0-8B56-522A93B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145BECE-9941-4FF1-BF65-52911D3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CBFCF-3F86-422B-AB8C-BAE777BE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7C5B652-9039-4379-AE00-B74065C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C13C0DE-B998-4903-BD93-CC243953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55087D3-7AC7-4B9E-A4A7-2626E71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F4889C1-F403-4DF4-9628-B8188A3F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909DC6A-741D-4B12-BADE-5A5B033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A3D8A89-56CC-483A-AEDF-EE752BD4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9A74CD5-FFE7-481C-8FD5-F008AC07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91BD30A-5414-4CE6-AE09-B32383BC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DBC4104-F133-49EB-A5D5-C5E5034E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7406979-9BB8-48EE-8CB3-4850AE9D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98250-6682-46B7-890D-BF2FFA54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4DA282D-0BDE-4B15-AC5B-726CF5A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83A13D3-80AB-49CD-8268-2277E1FA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2BD4A32-0BA8-4CED-9C4C-2A963451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02362C9-1903-4771-9F6A-2C1E53D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26DF04D-9658-498D-8580-0AF9D15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A7F60FD-6412-4E0B-99A7-0A523FE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C69EBAF-019C-4BD9-85D5-1C58020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C05C98D-E831-4F73-8FEC-B9CBC110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9512E43-5599-4E97-94D0-A411B028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863EB112-5469-45AA-98CB-5604C2F8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3FD25-A382-4091-8D7D-D9386E95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D5EF319-37ED-4524-B937-8E667EE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51B73A1-5738-4A5A-BD35-5376CE1C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F783517-261A-487C-AD56-3EE13D52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4547C2C-2F45-4F2E-B2C9-4EDEE40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874E1C97-E3CB-4712-9776-DE2BB1E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C2FF92C-3F09-4E73-95CE-A8467749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F8E1D81-7DBF-4C53-A9EE-5F922DC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C943A42-C0D4-4D5F-AE1F-01391955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6CC3D0C-0F16-4771-BA6F-4B2F3241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A0E8233-8ABF-4F2E-94DC-2C0CC22A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FC91-32CD-4F6C-9E4C-B8C521D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36E06-4951-4538-A160-C35F1862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AC77C8E-4EFB-4EFE-91C9-4D9A3461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0C709E5-607D-43DB-B888-BDC61365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9F93E4D-81A1-44E3-9720-B2AD0CD4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5AEEDD9-736D-4B77-8733-7143727E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8E6856E-AE71-423D-8D52-EFDCFA7B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9931C6B-BEA8-4A67-BDEC-FEBEA10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554E2A9-14A2-4038-8B03-37F34FB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BD7B14A-08AC-4E6D-A68A-FF6FF2E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23EA226-448D-419A-B90C-B82E77E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56A9514-B68B-44D5-9B4F-63D2E87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61F9A-89B7-43CB-AB21-B6C186F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984F587-FE96-4812-B9D0-1835C6B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7183336-1B87-427C-85DF-6B43B856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5425015-B0E9-4C51-B53F-ED5936B2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8DAA60F-3C83-46B4-BA47-ECF98267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D698494-8EEA-4C8E-BB03-1D5D3F23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8FAAC2B-C582-4260-AE27-2E5C9F9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B21BEF8-A76C-4883-8C72-D0E160F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3682FE4D-BFAA-43C8-B75D-AEEE52D8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7132E5B-E5AB-4D9B-A7E9-55AFE5D9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4F0141C8-E9A2-415B-ABD0-E48B726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9836E-9438-48BB-9DB0-D9A10C4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ABC0DE5-51B4-42B2-A0C1-A3DFC40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3C72194-CB07-4E11-9B91-7B42F788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0BD3188-05E5-45A8-8388-0198BE3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2962155-8F79-4AAA-9E25-578171CA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9888244-E1E8-4A8C-B392-3A70A902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DEED166-5846-40CF-9A89-4C606FF2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260C2EB-1486-4CE7-8CC3-EE2E6E1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6256467-B1D9-4861-BAFE-309A039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F8F000A-822F-4A44-BDFF-08B21052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C60F8E7-D022-4FB5-A4F2-CBF3420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130D6-FC88-46F6-8FE9-2A25AFC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5BB2A2C-7F47-4D51-AAA0-6A56E68A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37F1BB7-B0FE-4D19-94C9-284FEBD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A49F4A7-0DC7-4777-A1E1-4774716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0F44CE5-E95B-40B2-A5B6-A5A261C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01D57D2-813D-4CAB-A95F-2652107B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822C378-6CD0-4810-8300-B044A2AF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7E0B49D0-D8FB-452F-ACE6-05E76213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AD1C93E-995B-4F18-967E-F1603D80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FDCC99B-6576-4518-BF1F-5628B8F5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ECE95B7-D296-4196-A239-727349D1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ADAAC-224A-496A-83EB-140C66CA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082FED9-77BC-444F-86A4-F914CED6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E4F114A-D66B-4E64-AED8-A0D1DB85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B9CA14C-ED46-4FCB-954A-BABC9766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E9CEB4F-F07E-4A0B-8FA5-A6139A4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BE88F99-EDE1-4953-A398-758EBDE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6AA1113-8F00-4FBB-BC39-ED5F670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1D6B6CC-5311-4B4C-B4A7-F99BF98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586944C-8403-4FCD-A7C5-E1EB9098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A336ADFC-79BE-43F4-94F2-CA58F80B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77E31EB-7565-4260-BC6C-F155D667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772B5-5AF3-4313-BE5B-F76F643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CA2C161-A2AA-44E4-80E5-BE10E9E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53633DF-8472-4256-8719-AF32163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583A90C-9AF2-4743-86FF-C43BD81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5C20DA5-3B9C-41B7-932B-0881B30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9CD94C4-A3A4-4244-9B7F-6531229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30FB14C-81B3-4833-B7E0-5F28CFD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817921B-29BE-4C8D-8329-FB8537E0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3F10DED-D080-4527-B288-890FC24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818386B-5EE6-4A5F-A194-43DBC928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B07905B-0E7D-492F-B025-939406CF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58BBB-4C87-4E54-A26D-4DBEAB7F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1CE8320-B0B1-4900-999B-B72CD773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BB66408-7F50-413B-A448-C65A3786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E1000BF-7573-4653-872D-E60E288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F82081A-6A7F-4EA3-9CD6-D08C4DE5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B0D0FA1-9E98-41D7-A5DF-B78FB4C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C76262E-F767-4749-A596-FC1623B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0C8A30C-8113-441A-BF9B-DD5298E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44D9E61-0D85-42D8-B8FB-E8F16D5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E2846EA-3E0E-46E4-BECB-B220F38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75DF5DC-941A-4476-A930-3C2CC8C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FDBFD-4BCC-4B6C-B73A-FF33652F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F0DCD3C-F0A7-4C5B-8B3B-002B3D4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D4B9287-D403-4474-93E7-D317A87A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7320CA9-CFF8-4233-9E8B-E8540CE4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E7D0A3C-27CA-41F7-97B4-79445490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3D22448-6610-449F-828E-EC005852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02D0D0B-C3FB-47FE-BE65-D9793166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9C4EEA8-EB30-460B-B242-2574BDA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D2F559A-7BA6-4C6C-9111-B94BAFA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FBFFF50-EC57-4FCE-8EE9-CCC773CD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9EBB0F5-DFD1-457C-B90F-8C1F760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E54D5-82D9-4835-A45F-A644A3AC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D2F3195-A76F-4589-8DAD-96C7772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4FF09463-EEE2-4B69-96CB-DD6A7B6E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C512CDA-A634-4602-A6EC-877DD7E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7E8BA6F-9370-4D50-A064-A00459B8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26CA5FE-5FCA-4E49-AD6A-7246A381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7A2460B-B73A-45DE-B0CF-207E19C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33DA32B-1236-48E5-9C8F-12A506D9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44674D4-4F00-440C-B891-71675CCC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0BDA6E00-9010-4D75-870B-429D665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2859911-D5AA-43B3-9162-9B3FF4F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4A76A-4CB5-438A-A9C6-CDF355C4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26A6D1F-F58C-400C-A630-67065AF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30C3E39-4A9A-4F27-AC79-2D63BE1A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F2E3A2E-D7BD-420C-867A-BEFBF8A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B2349CA-DE9A-437E-A56B-0F09FD5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DDEF591-92A8-4CE5-B4BB-B386A38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DDCF9BB-5EDD-4A47-9D3A-8B455E37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7153BC9-52F9-46CD-A494-EDA20AF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C54068A-AE66-49C5-B0D6-8F3CACA4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0060259-66FE-42B0-9FD5-510CC719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98C87D8-F8B5-4A1C-B783-CEB6EB29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32B-8B07-4E51-8EBD-3B6518E6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30757-BB1D-4BAC-AD7E-D461ABE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221D5C3-1DC8-4716-9BB8-ECD915F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A190F84-F2F2-4A0F-936F-70C08D6A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2510757-3168-49DA-A4BC-02AEA21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8268C9D-B37A-4BD6-8631-0DF632E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288ECC1-F3A8-4211-9C56-37D2CEEC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E595999-F6FC-4B57-AD6E-A0F8BEA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379211D-7D94-4231-82D7-AC6B7376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28DC236-10D1-42DD-963F-4AEFBC26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4E68298-C798-413C-8755-0E8B314D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9638FA0-95B6-420E-9920-AF21EDFC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E80E5-A5EF-4632-AFDE-33E2C8D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8737734-A2B0-43D4-B552-EE318586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D46C5AE-5435-4D27-A414-87353B2E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8CAFDB7-B9B1-4005-9438-047F641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2A4594B-93E7-4367-A099-4381717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8797E403-A3DE-4CA5-A962-30F6CDF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C21A75B-30D0-40B6-90E1-F4D28AE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F5B6F7E-16BC-4E57-AA07-6CF67C2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74ED2E7-BAAE-4282-AC82-1273DA2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4A59FC0-4C30-4359-939E-B070C23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B4B3D3B-03D6-4525-BD8A-5EF23DB9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85D65-0F2C-41FC-940A-97B2C6B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FCEA060-44B8-4D41-B58B-3AC6CE0E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C3CB727-3219-4545-B75D-9E07A00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87B2A92-49FD-43F2-9E6A-CDE05F5B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C03AC6F-28D4-4D68-BD08-DD181EF5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E3CA0C8-CD7E-44F1-9BA7-6AC78E5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826DEC7-8647-42C5-9F11-794BF03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0FCA828-FCAB-4C6C-8A0C-6F582C9A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DEFAA64-B07C-4698-990E-6525243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CE898B3-A457-40AF-82CC-673A1C95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9A9F633-AA60-4566-A224-FEB8D3C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A1DF3-F3F3-4AE2-992A-E4F2943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809B09D-8B54-40C7-AE75-2C68AB7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53C5017-BB6D-48D6-877C-13F31EA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92CE346-10A4-41FC-A1CA-EC2357DB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FD2F602-56AD-47E9-9806-3821FDEE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78AC453-7B47-41DC-8B91-EDF818F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466347F-EA90-4A07-A09D-EDAB168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6173F10-DD11-4145-A7D9-1A6DC08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EBBD1D2-80D4-4177-B1B0-CEEADBCB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C382373-1386-4E34-993D-8B93C5B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E1DABCD-D7D3-4337-9E7B-D5BF54B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1FEB1-E21D-470D-BBE3-86E3F1F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8A59594-5C71-45AC-8A06-1E8E111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A066BE8-3B7D-452A-9C69-4C93F42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9076B7F-1929-47DC-A618-C194B5A5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DE8DD1B-EC21-4C83-8EDE-2A89147C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2717569-86D7-4B26-AD45-9E73D05D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9027C43-9F98-4E1A-9493-FEE01703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2FB3DE7-FF82-4696-83BE-073640F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D67544B-5D52-41FA-85A7-2E72F40B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42FC3D10-65DF-426E-95A7-E5AE5D1E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4993E97-BFEB-4699-A14A-F3921FE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CF111-E822-4634-AE3D-AA84BA7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6782BEA-EC8E-445D-B640-E144A11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C3B341D-5145-4FEC-BB80-E2152ED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A410710-6954-4F74-973D-6D086AF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8C797AF-9B6B-412C-BB37-BAEF1F60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44521F2F-DA4A-4A2B-8C58-FB48687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81DA7E6-BB0F-428D-8D47-FE245ABD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7FE6AD3-8FBD-46D2-B19D-2DA76F3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F8B775B-B55A-4C25-9733-D4CEC430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77ECFF5-E77B-4A93-B918-45760F3B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1CCC9E2-4665-4268-8196-35FBB2A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19E2F-F66D-46E0-AA3F-17595C3F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261FC31-0B2E-4068-A743-00EC429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DB8F4D0-86C0-4B44-A87B-D5FE90B8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87041B8-64A5-438C-8315-8AB9EF90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B2E31B1-16DD-481B-AE31-3E4A628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4A78B9C-7E58-4FBB-821F-DA76723F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D6DDC6F-9FA4-45F7-939C-9669BA1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8213D8C-16AD-41FB-9AA6-46CE4DD4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22553A6-7B56-4E3F-9EF0-B6E1E76E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EBADCC3-2F10-45F5-A388-C05F721D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FC3B684-E10D-4FA4-9D39-D7154662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BF263-5AD7-4853-9CD0-1FBE6F47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9AF226C-D4FC-44FC-A29D-2D40B73D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E46FB45-156F-40E1-9C37-3D6D044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B536A74-E3B1-43C0-936B-9739369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24C998F-F263-4473-9239-5CF741F0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0E25309-A6C4-4036-B47B-1BAF50AF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13E59B5-166E-46B6-8C61-6D0DADE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A93A482-CA13-4E3D-B16D-B49ABE5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C25CCB1E-B0B1-4A10-A4D7-836ECD5A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C0809AC-FBB8-44DE-BAA1-80CF0B27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482903A-C21F-4F74-A65C-312915F1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EAD3A-548F-4CFB-AC3C-39DD6938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5CFFA0C-5589-4313-BFAC-8C7E102A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7DC6998-694A-4EB0-B77D-CF44D9E1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199B816-00A8-4C3B-BD9D-AFBA49C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8D0BE22-076D-424D-9442-E31B7137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73CB881-7D22-4988-AF9B-0F224429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79DE513-3E3E-4F74-8EF7-ADE1DB19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07A99D1-EF1A-451D-9CDF-BAE758F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CD3E28D-CEA0-419C-994C-CEC70FE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82D261C-43DB-44D9-AF37-BF696CA6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2F8A1DC-07F0-47D1-8534-E14420A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62D7B-6D16-496E-88E3-51E2AC50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4F1DAD8-BB5C-4008-A03E-650BCC5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F8491E7-6463-4D8C-9399-0335F874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CB851BD-8A0C-4336-B040-D7F4B954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DB511D4-4172-4FD7-BA62-76D8302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2A40632-8F61-4BEA-9C48-91BCF4D6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14027FB-7C9A-4821-913F-BB93116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2D9ECDC-C78C-4574-AA3D-B7174329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0A29FAB-6908-4153-906E-1B6F0539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E56D1EB-A9B4-4A7A-AFB9-412F6C7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5D004B3-FC10-444D-BC5E-52FF7B6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D1E3-E95F-402F-8010-6BFB155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5AB61-1A0D-40D9-80BD-969AD5F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B2D0635-6185-4AB7-9A70-1E2EE4B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6DB00A2-760E-4C1A-B9EA-D0580BF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16CC9E7-2800-4A4E-818F-C567AAEF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CB539B6-74AB-478F-B638-83F01CF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D26A867-C85E-4095-9437-63FD952B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8497ED9-0A92-4A7B-A00D-4E34AB67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46A0370-3289-4FBC-98DA-2A6C3DF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ACE399C-BA2E-4830-9E9F-A655D7E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9AA67C5-FA0C-4B1C-B997-0879D1E8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31B4BE9-7BD6-4C81-8EDA-682ED9BB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E5034-899F-420C-9955-EE2E24EF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99876BC-A4FC-4EDE-A985-E80739AB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13C3554-A46B-4F6C-8AB0-8476ED1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28E64BD-4AFE-4B92-979A-7083106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520330E-BC78-4866-89BF-ADAC04A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7A1C517-8D34-4560-9C18-F7D9503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09BC4B9-3042-4672-96BB-10A9C000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C714809-91A3-4E82-B282-E060A638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C681B78-4A40-4020-BE64-A5C97CB1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0AC22F66-F8C2-4E09-BCCB-6DC869D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CD0B0F9-1444-4AB2-92DF-421D988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7BF5B-CCFF-477E-8FF5-2E29E3C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5B2DEE9-E138-4CA5-AB35-78DC0426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87664E2-F760-4B76-A7E9-F672465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634A37F-F9FA-4CD6-8F34-8BB281A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97235EC-BCC0-4657-ACD5-4B7AAC8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7285834-5E9A-46D6-923B-B5C8490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BD572FD-8A83-4C14-9BD8-EA6C21C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9F72985-332D-473B-8580-14B2043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84E34CA-8356-44A2-9A98-4B63A00B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526991E-D177-44ED-8A84-9324CC4E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4C4BD5D-86D5-4B09-B438-4D8FB2A8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C4B66-8B87-4E99-AA28-3C759E1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C56F183-9008-4B4B-9343-B394687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C97F06B-3284-4B64-B29B-9293D05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50EA213-E695-4F2D-916B-BD9A399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F4B4B82-6578-4362-A863-F345606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8FB8847-C97A-413D-8422-9FD08774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60C8E2C-DBD5-4554-934F-99EA9A0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34CA9B0-2D53-473D-A334-8A918AB8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D708E1B-36EC-4581-8F19-5E057BA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8D336B6-8F1E-4466-9ABF-8E499E14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793B43B-975B-4FD7-BBFF-B3931448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2E197-758F-4EB4-9E71-9794263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EE0EF38-F489-4830-BF7C-621B71B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D08F1D4-9B2A-4BFB-8D8C-B700E9FA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DE3A7FFE-1648-4966-B1A5-11E2B046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7F3F6AB-A5E3-444B-97C0-935C631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BDB5B6B-AE03-4EF1-904B-38AD193B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C705969-9FCE-4C0C-B69B-28E84386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2BC83C6-29A7-4E1A-9EFA-E972D2C5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98B213B-A64D-4231-ADBE-07FB5109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EBB3FE3-CAD9-4BF7-9796-7AD029E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80AFB158-E2DC-41E7-8948-193ED9A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5FEE2-3A1C-40B7-A1B9-068A4B7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BFC5416-4AA0-411F-9022-BDDD8E4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FA2BEE6-BB6F-4317-A58A-A98E6D0B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74C647EB-DDCC-46CA-92D5-BD5B37D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6E23010-BCB9-4D26-9E76-745A60E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B99FD78-56DA-401E-84B2-96054A60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184175A1-F799-436A-8FCA-D6F67CD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6F402B2-894F-43CE-9D8C-A21399FA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66C26839-49FE-4DEF-B7FA-E03A6B20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221E651-552B-489E-9FD1-94E6EFB8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D5111E4-54DD-424E-8F8A-EF336EB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C312A-67E9-4F6D-91FB-8F3728A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3997592-879B-479D-BDEF-C6800F9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70CE58A-75E7-496E-A7E3-25D5427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9981F54-E062-433C-99B5-C35E5B4B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8F3290C-D864-4FBB-BEF0-ABCC8CB8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E3CA40CD-9D51-434C-8B2A-A04A7F75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6779E89-2C23-4798-B535-1028FB56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28D2BC5-9851-4D8E-94D3-8D3060D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077ADF2-070E-4EDA-B570-6B2EE267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86BB2401-DB08-469A-8AF4-449C6BD4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D520182-7215-4502-A9E2-48431AD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2B733-C05F-4678-AE42-B860548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E276B00-5CE4-4765-B452-A40DCC8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B440245-8F49-4C86-B549-B8F2AAFC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A68EBC7-D5DC-455A-A24C-AC48F1D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102CB638-D02B-4111-B5A9-5A1B477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BAA0D5B-DE28-4D58-94B2-C1ED77F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7EA3E8F-59AC-4A3F-B233-9C19DD9A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D06685D-C59F-43C4-8051-D2E8A36D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45E5422-93A2-4FA4-AB5C-8406290D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8E6DD56D-1FB5-4493-A4FC-F6876C8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61CE474-F838-4355-A926-4173CDD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5171C-0683-4C37-A4F6-983BCFF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9F82EFC-D798-41C7-AA09-A40634D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E6DF027-4A61-4D02-B2B3-CEB550E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C373F6F7-81A9-4564-BE6D-5E98D6D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4BA303A-81A5-4993-B129-8C58895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3C1508B-7B6A-4668-A41D-455A754A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F2E79491-1F57-40C4-AD35-D44F2D3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63ED9A4-0FD5-43B5-B946-BB4EFB99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EA3EEAE-FBEF-4A25-9552-15B29F47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AB1F7E4-E377-481E-A986-67C9E185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E87C132-7A36-4C48-AA47-FBC44780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7A2C4-AC22-421D-8C66-B599CB4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D449D6F-5164-4C1C-8627-67482AA9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9CFE1B6-C566-465C-82A8-33852B4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5BCAC391-9F19-4D32-8183-4596323E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934F781-A842-4BA1-BA94-CDFF839A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47100A4-FA81-4931-8342-991A0062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C444AF3-AB7F-4DEB-9208-BDDFEA5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5143ABE-646F-4C2C-975A-41BAB4D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002FF19-B612-4200-86C0-4807C75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D95C530-112F-4C4C-B04B-95A7BE2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FC3FD21-238E-4BA0-AD48-74779EB3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542-4FE9-4252-9A53-A07B4AD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A5CE1-925C-4B46-85B2-37669FA9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B6F0538-ECAA-42FA-A437-DC2EDA85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4743F6B-B126-46CF-94F9-3779AF4D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CE6236E-E24B-4E63-A67F-3AEAA993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E443E8F-3489-4ADF-8D2E-E7B99F19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7874ECA-C328-417A-925D-BD571C37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D5B82B9-4288-49CC-B8A7-A248848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CD619F8-5014-4290-A7D5-1D6CB93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7D1BADF-3D0B-4396-9A6E-A76BA73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8D0CB6B-4892-454A-9586-861F848E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D3176E0-B81D-4399-BF2A-38406A8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49D84-D5C7-4783-8DCE-F6C4D4D6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1122B55-F62A-479C-8511-0FCC5C2A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BC3F1FE-7160-4C64-9898-1FBB7242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4C010ED-C30D-4E4E-99BE-83A275E8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EA7868D7-7671-45B7-A59A-DD1B5D05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2AD8B5E-DF0E-4510-85F4-6A3999C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667D3BF-3A87-448B-920E-94DE4711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5F468F18-844F-42DB-BE6D-3EE3AFF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960A1B8-1CAD-400D-9F3F-F1F72473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FDDADE41-47EC-47D0-A534-219B0EF6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6828BFE3-8916-49DF-AD7B-7438485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5160F-1834-41A6-94DA-28E104D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EC5ED03-3410-47C0-88BB-5D5937C3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6649BD2-3A91-488E-AE7B-3543313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B2CD644-5E3C-4BBB-9C4B-1BC603F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A8C9982-11A7-4DB3-8AAA-6FA1142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17B3C56-051A-4C90-B6E0-79A1E85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3B34472-9DF9-4335-BE7D-D51ED145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CA19FE0-16A4-4EFE-A891-95386BD9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F8511BB-C0DB-48A8-A9E0-67FC517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F18BD95-71C8-43A4-8B10-CCE0599C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44F15D38-1412-4F8E-98ED-CC3B67C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62E51C-0588-4BE6-B878-D0AEF2D7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C377212-AED8-4E2B-99FF-E41BE9E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FADC16B-0C47-4C99-BB0D-D8EA02D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46DBF05-DD3C-47F6-A5EA-4FAFBF7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A655802-4369-47B1-B8ED-6B6A190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C075E11-F89E-4FB7-9BD0-801BA15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A463E4AE-5428-41EC-8741-C5D6E7FA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160AF694-6A5B-46BC-A086-287C443F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EEC22842-0E4C-4096-BCE2-F5188BB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F096E3B-581C-417C-A689-C17E746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E0E7A7F-EC38-4E75-981C-156963A2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2A159-61D8-4784-83C0-D6A985C7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14C31B3-4DF7-412A-B56B-18923CE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5EB4BF6-81E1-4069-95E0-AF2ECF29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EC082EA-9C46-41DC-BEE1-351FCBF5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9B89EC8-464D-4D96-AF2E-71256A1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41A7749-6203-4788-B5D1-FC8EB616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48C89E5-2B9D-47F9-A9B6-36F1A9B0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73D12D1-8E11-4B1E-8C9D-BB0C114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EF3F6E9-872E-45A2-8BF3-A87E798D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19C1C1DF-143D-4F13-AC82-3B649DDC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0D4516A-4B99-4DF4-80AC-96E32922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60029-A285-4AAF-8EEE-48D2D0C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7CD5D096-1AD4-48D5-BB87-AA5DE7B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074494A3-4D12-47C0-B786-57AE76C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B04C152-A6D7-4661-9F58-29D70037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9C36243-D963-46B2-A234-FD438C88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B66A6FE-28E0-434E-B2E3-5EBBB09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D0F6FAD4-808E-4006-8995-D9751580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2995ADD8-4FD2-465D-8421-50D5DA1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320BC41-791A-4140-93EF-7B00659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4E37E7B-5CE5-4B6B-8025-96B3509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64FB346-835E-4875-9C73-DF062234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D4F01-D679-4384-B748-DF94A3A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E1816EC-C7F5-4FE9-9E7B-98E24C4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DB95ED1-AD80-4E7F-8F8B-840DFCD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6C0A009-0572-4BC9-B706-146EA52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C95B32E7-D009-4996-AB58-1036C62A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2F8CF3D3-E618-4ABC-8EDB-8E497B7E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CA4A720-E1BB-44C4-8DCE-22BC51B2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906E7C54-7107-4775-9895-6E74CDA2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439699D-5CC9-44BA-89A4-D2B80CB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02A7A754-6B34-4E18-B8F8-CD70B06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041B14CE-C943-4AFE-AF2C-D503E46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179D0-F58F-4A42-96F1-EDA59EDC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59AD99B-D547-4E61-82E3-F243D2E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029C781-71F3-4C35-8CF5-1D3BB4AA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F5CCF7D-CD26-40A7-B28D-A3114001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80A419C-7E78-458A-9A5F-C0022B32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719AF7A-D34D-4791-9B49-C60C353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F39D77C-0331-4B42-BBC8-1B85BB46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3E8F86E-69A2-4493-99A6-92DCF3B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E0E9BC24-DE3C-45FE-B5DD-39D15E0B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C017EAC-6DBA-4764-A6D0-9F35ED6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442789C2-803E-4AC3-99D8-478BF4B8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BE6FF-D667-4FE9-B016-EE6D870F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35A45AD-46D5-4A0F-93CE-283E5ED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F488720-CA6A-47AB-9B42-F9194878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96C96464-F261-44DB-B7EE-02F2BEC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E1D9C0B-5BA9-4F89-911E-4A5CB1BB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151EC65-E26F-4369-BA1E-82E69B13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B82B33-CEBD-415D-8FE1-DCF3001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2ABE-403A-4776-93DF-3207367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969D9-B443-49F5-A592-5425A7F9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E8CCE-4E6D-4138-A3A6-FC2D2318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71728-B0B3-4AB0-BFBA-81C05AF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2C153-EE5F-4002-A5EC-54223AA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3FA8C-45F2-465A-88E5-4EF294BA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636BF-284A-46D6-94B3-F50A608E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85EC1-C416-4059-B471-D310B12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28D1F-26CD-4420-B001-AD2DE092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522CE-7497-4847-BEF4-BE61821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D4070-39AA-4D02-A5B8-961E626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79E-529F-4EE9-8103-999E716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1A4-9420-4D3E-BFE1-BBC6DB7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41D08-FE73-430C-B15F-40C1F00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86C8C-FA54-4982-9CA9-DCCB653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DE8FF-EE4E-4E23-BCDC-413B7D6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02247-6DD3-4CED-87C8-4DBE47B6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DC4D3-D1B9-45EC-9C87-20607410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1D521-69C8-40AE-AD7C-F5E46AC9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0AF6C-8C93-4E60-86AD-FED19C1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7F40C-FFB8-4539-9E99-76689EF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97181-F6B6-46FA-89A1-B2429A9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95CB73-C158-4790-AD52-44F97D6E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3C4-D578-43F6-B531-65566A3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CA33E-D7F4-411E-BD03-FCF8AA2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7EBDE-AC21-4936-A4DD-231CCAD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FD4FD-A88F-4F48-83AD-9BF608F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E8401-4824-433B-8AA8-2C32EED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84188-1750-4FAF-A52F-474CD34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3AA93-59E4-41CB-8127-7DAC8A19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5D9629-A2D3-42B9-AE49-8B42CF14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82E5C-F89E-4DAF-BDE5-D5344FF4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2CF950-3FEA-4AC8-8FC8-98AF64C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8A728-8E19-4646-9A2E-4BCC5ED9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347-DA66-47AB-A59E-0CDCD5F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9122D-5C24-46A5-8BB2-A53C98C9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8C743-2E4B-4E95-8574-EED08AE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DBB2B-A5F8-436D-BA5E-A552012A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927F7-00D3-4CFC-B974-2CFE440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ADE77-7EE2-4349-AC22-D70F8D5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8867C-2DB2-4365-9ADE-EA02FD1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F9CC9-24BC-4514-91AA-5A4A0358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86EB8-B35D-42AC-91C4-DCB9CB04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B847F-7347-44C0-B55C-D9003CA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E01F8-C83C-41AD-A596-333C63E2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60C4-7D34-4D30-98F7-67F3157E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24FF2-2A14-48E0-9A3A-3D537E1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4E776-76A2-48B0-9C8D-C07C598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C929C-E69F-4A15-96D5-53D38275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A99F2-4A7B-41E4-9A3A-85534CAF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E730B-533A-48D5-99F2-5D81808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8F91F-3309-48D0-ADC4-2C6EED3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FB4FC-D195-474D-B354-397663F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A70B0-B7C7-44A5-8140-CBED759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C5954-DC70-40E7-B515-08A4D6B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A2A9C-0AED-42ED-AB6B-78E9BD5B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3034-E9C2-4AB3-95DF-7B49375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4E306-170E-4199-9158-D2448A8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71A3C-B489-4910-ACD5-756A18F0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57C7E-C075-49B7-94FE-C81FFE4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D15DF-EEE0-4E89-9165-D1A55D9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B94CA-3D3B-470D-86DD-3D8C7001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E33F3-543B-4B4A-9A0B-A1E409E7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3D318F-8771-49A1-9BEB-C0C2C95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D27D0-AF70-44B7-8F8D-4987F8D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572BC-90C0-4AAA-AD5F-BDD4A7CC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56E00A-E6CA-4F07-850B-E33B2F9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D1CA-E30F-4A48-A5A7-12F08915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BECF7-3E48-4246-A672-4179C94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BFD1D-7830-470A-9029-206DF22C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46FEE-4FB5-42B0-8B86-7CCEC4B5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7CDB05-F36A-4263-A111-1A3416E2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FBA8F-28FF-44EF-B045-D74F825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BFFC6E-7A0F-47D9-B5B3-C6B3DB92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6353AF-BABB-413A-B540-F4CA258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B3E02-049C-4DDC-87B5-11CBFF0B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BBBD7-8DAD-4911-8E09-4108357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EE322-B523-4547-9A5E-F96B0F3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7C52-3C30-4760-9EDF-242A15D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DA91A3-9A6B-4B75-B872-96889EA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FA657-7840-4663-94C2-C6B0FEF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03171C-8986-44AF-AF2F-B97F18C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1CC95-52ED-4E88-B51F-91C9CA5F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4766B9-C963-4B17-B43C-D2DA9938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E849C6-EA7C-4E39-A982-1586027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2F082-BD3D-44EB-9E39-C95655D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32709-E2E8-4E52-B0FB-4A8089B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F505D1-27D1-4804-A53B-83DDA3F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C2633-7CA7-4F17-AED2-1C81E0F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19D7-32DD-4124-A9B8-AC819465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0C8FA6-7635-4B15-B948-AD999A80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81E171-92BF-45FE-9876-CD0A628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C37C54-B14A-4065-A903-3EF99F7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751B31-AF6F-4D28-AA43-C070BA7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6CBA9C-D285-466D-BE60-E03C583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1C510-4234-450C-A25C-4D9CBCD1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E869F-E019-4C42-862A-8C8EFBCB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1033A5-17FE-4807-A6C7-6EA94EF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B579A-CB10-48DD-BA20-CEEF0AA1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38636-F072-4A78-80DC-B7CF4A76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A7D2-369F-4916-A9E4-467E5D51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68ADFF-7ABD-45C1-AB38-729AFF3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5519C9-7C7B-4E35-A4B2-0135BBDB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02AFD6-A562-4ABE-A472-0511AB5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CBF82B-E0FE-4D95-A811-8299B6B4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AE61B2-D1F8-453D-8749-307F95E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DC7893-129F-4817-BE4A-5D3ADD9C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3A3EA4-1534-466D-8DB0-36D2B345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93EA11-9369-4298-A1E1-7F30C98E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F4B93E-FC0E-4480-9A64-901A4F07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1B8F1C-55D9-4333-AEBE-7D0CCAED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C15C-5BF8-4F46-8918-423FFD8D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686CCA-3731-4B6D-A2F9-1AB794E4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E76B1B-0132-4B7C-86F1-591DDA4C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D2E89-7453-4114-A8D8-EA485A6F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04ED8-8101-463C-880D-E03A78C1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0B85E-5A9D-486F-9047-C577DE5A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C6220C-4A97-49F2-9A58-6244C62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CAA00D-DD2F-4139-9366-6042C782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F65F42-701F-4815-A1AF-E27435D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E3BDA4-032B-4F0B-9DCF-35A9B0B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A17712-B88D-44E9-8948-95108C38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A43-3040-483C-A6F9-7C7028A1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3F50-9245-4E32-A838-C513341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0217F8-5437-41D6-8629-076D27DD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6445E5-A38B-40D3-8D55-A4EE58D9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A80E40-F327-4245-9438-4A1373C7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4770A9-7531-430C-A527-676D9F21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FE0F0D-691F-4C5B-A1DB-3BC6D9F1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DFF9EE-0FE9-4651-A079-473A6E2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E8E773-E7BD-43AA-9BE9-021B4CA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522A50-E388-4795-856A-1D0D9B9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2521F6-FC91-486C-9E3C-2F7C6FC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6B6449-0670-428B-A483-C1E4719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0DD4-2A4A-4E7E-BC14-155C7B38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4E9BF-7C60-4D54-89F4-D46B09AC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1CA770-D80D-447E-9396-108CDE4B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3FD3A-349E-4D02-AB37-1C49C057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886B7F-959B-4253-8662-F1550482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2A4BC9-0C4A-49F2-8344-809ED19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AC341-1EB6-4027-A2E8-24D9BF5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CC1DD2-E42F-423F-BB6D-1D12CA0A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838FF9-C170-4EA0-A867-5BF0C49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0908CD-0C09-42DD-A405-50FE074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320186-482A-4201-B5E8-227DF00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0926-6CC4-422E-BBD9-9B01DA0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FA3B85-69C6-4B37-9106-666CFB0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9E47A2-5CD6-404A-A564-E00B462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312BBB-76A5-4780-9C21-6DB65EF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66E725-773C-44DC-A99C-1CCD9024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2CC2E1-9351-411F-88E8-E354A253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0D6C2-8AB7-49EE-8F02-5C46E245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E93A78-E4BC-47E3-A8A4-4C42E44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1673B2-3980-43A4-AD01-FBEAF2F2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E49A34-1E46-4A9E-8221-5C7F40D7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7123BE-AEF8-48EC-96F6-9EAE0A0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C689-C1DD-40F4-B75A-6C552A2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0B8FC0-4712-4891-BDC2-5E7F09D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8CB683-D053-431A-A231-5C9F9D7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D6C3FB-27A8-49DC-BB54-A81986E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8D63E1-8A4F-41E2-8F83-84B8D6C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5B095B-9D77-485E-857F-36EEC17C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54A30-EDD3-4784-97CB-C01D680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D845A8-58A4-4CA2-A459-C95D2C39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408576-3F6C-4521-BC90-F29FADD7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6169B0-30B5-4AB4-996E-901C581A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4254E0-8467-4263-8722-4B35B74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F278-71C8-46D7-ADB8-62616348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5E16A2-CEE1-4978-B52D-F3EF0F7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EE64C8-997C-41B4-83A3-BBEAE71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0E7E10-936B-4B1C-9024-7BDEBE2E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D4CE2E-BA72-4AD1-A796-8265679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92050E-DCEC-4931-95E4-80E5567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3C594C-CE6C-47F2-9DBE-C20DF5F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843E40-171B-4749-8774-2766A102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DB405B-BF7A-4147-85B5-DD25434C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5A3C83-5F90-4BFD-80B3-79CD53E6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F0D3F1-3732-402B-8B40-0E716445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B012-A27C-4011-9B98-4A181E4C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88DEC6-CE5D-437A-9BB4-DEDEEBF8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89CD98-E2F1-4B6A-964C-F742B8B2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D816CF-833A-49EB-85B8-3AD1F40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247E73-0C2E-4AD2-8B19-AF32364B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7CF0D2-B426-4487-A128-A9F9C9FB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9D8576-65AB-46C6-81EE-FBBB497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75C2B4-46AC-4F90-83A9-6728D08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BC8D5F-5197-4353-BD5C-713FB60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353312-C3E4-4928-9D11-2F6F3F3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8A21EB-8890-4CAF-9AA1-47C11F99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BC30-5883-481A-9BBA-B4796940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CE4DF8-0DBA-467C-A6A0-15F3BEA1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4A9DD3-EA78-4537-8B0F-B8DCE7F4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1F6A1E-F9B6-4574-A7B7-0BC18CCF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B6DD5-4C6E-4F2E-A4C7-9EE16D5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35A933-485C-4B43-93C7-0CCB22E9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FEA26D-25DA-4229-A8F7-8EB3891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C38554-8DF8-4695-8F25-4B20B4EA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870ACA-5B09-49E3-A305-0938764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81CCA1-29A8-4707-A3DD-C6FE0CE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F60474-74BA-4D8E-A382-94DFEC5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2979-F7EC-484E-8ABF-B52B9B17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2ABCAB-9E20-450F-A8FE-51837986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81B0FA-DFBA-4E43-8D7D-0DC405D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E54C15-01B0-4C68-A11E-8D9ADB17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36D036-9BF5-407D-A883-0F9499B0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187A0B-C63E-48BB-9BE7-F16B628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08A219-BF05-4F79-ABD2-08C9E2F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6F35C6-A0CD-4867-A8B2-4D599C59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D34E00-FEC3-42F2-8A2A-C80A5B1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19FE71-F477-44B3-9690-ACF89289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9459B9-5EC4-4C2E-B702-5C5FBE7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B5BA-3C47-47F9-A261-9DBD7AFF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6E906E-3E08-45BE-A086-F00CF1B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E8B2E4-5D6B-4307-A7C3-BDD79BB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C1FCCD-AB2A-4A2B-B3F7-F4B00017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9A2BCA-0C94-4C74-BE3A-E15AE491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5BBAD3-5177-431A-AED3-E0004E83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2BBC58-ED93-4533-9DB4-402D449E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E38E62-02F1-4391-8FFF-BF64963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20A96F-9E14-42CF-AD23-4EAFD223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8CD79A-F1D1-479D-AF74-B0D5ED70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2697BC-21DE-4724-AC81-30B211C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2FC2-175A-4191-850F-5C555249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F87C87-B1DD-4D78-AE48-551F4CA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67B9C4-ADA9-4237-BEF8-899FA00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8D1808-81E6-4287-B3A6-8B6DA1C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A57BE1-C39A-4118-9541-703F9FD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CCBE5A-8146-486A-AA3F-27A1811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ED4939-EBA2-466B-99A4-27FBBCB5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289025-BEA6-47E5-81DE-B88E7263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D0FDDA-667C-4457-9909-D2D88B02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9B6F72-FA87-42B8-9E3A-F2511C8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CE40D0-96EF-4617-8F39-BDEE55D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DC6-F15B-4942-BDF9-F998E15A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1A28-3BE3-4764-B310-4C0337C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0B4923-7D00-4114-B5F6-646DE1D4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D3D695-82DC-4254-948A-610B7F6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10C896-11F9-4191-AE29-F36DB07B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BC8601-15D4-4B00-A023-C5A4B00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6DC2EE-1729-40FF-B3C9-927EFC1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DD16F5-5F6F-4208-8B0E-7366CB0E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DB4ADF-CD84-4C61-BDD2-39B3A76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3A0479-8C6B-406E-A098-EBD35C50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F1FDD1-DAAE-4441-803C-BAD80708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D0CDCB-CCCA-4477-B951-B0D053EF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813E-2AC9-40B4-A8BF-DB3AC3B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229666-26ED-4358-A31B-4D42F79C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0E793F-7D3D-48B7-B5AC-2FCE11CC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D17FE9-512F-4900-B05C-D979921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7AB3AF-FB86-4301-AA4A-7E1085F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6C9D4E-35C2-4011-B40A-B7280D7C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77D318-8809-4D1C-A9AF-6EF36C3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6D0DED-8502-43E2-89D5-96F5BFF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15A44D-9667-479C-9BA9-75CE68D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F2CEF3-EF33-4DB7-B14D-68BE665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B10C13-FAAE-42B6-83AA-F1BBE801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5F41-25E7-4C60-AE05-E2C90BC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538EA7-B35A-4842-A90D-879E32C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7463B6-AC6E-46F3-BFF8-4C5A9D98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644D0D-1F6B-4845-BAF3-66BD230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4AFE82-E653-4919-8D19-A518E23A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C81DB8-8BB0-44D1-B6E0-8CF500A4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C1DA74-770E-457C-804D-3DAB6792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D9CBD7-C50A-40D9-B39B-23F03FA1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4B55E7-170B-4DFE-BC30-236BA6F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E25B4F-5C06-4824-8305-FC19C88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D46665-D73A-4728-B8F2-181CEE7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A9E4-3F6E-4B6B-9B7F-6130DAC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55EC5C-78D9-4EE1-A9FA-0838526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A08121-0C7B-47E4-B21B-45CA13C3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DEBD03-5062-4995-8FCB-E3F781BC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7DB6B9-E038-4E3A-A2B1-CFF4F90D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93409C-82CF-4E22-BD68-F6326CFB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D8F880-3F31-4A07-AB09-72DFD3E5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C290C0-3AA9-4189-B7CD-19605F3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FB27F1-CC3E-4B4F-A777-2D8CF2E3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ECB113-2DC9-45BF-81B9-F17F259C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229F10-B97E-4164-B043-5B2C24CC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A624-CF8B-4C45-9AC8-835B431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7A52EF-F0F0-4A3E-B0A3-9F911AA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5B7703-BB2E-4310-8CD1-D4BE128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333033-08AF-4483-A129-091B2D8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4DDF53-5593-4854-AB15-A9396020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87C4D3-233C-43DB-9A71-E04E4DA0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E61919-889E-4E42-9079-F3243301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7838C6-AF88-4D6E-922F-AC88CBF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575C04-E7E7-41FE-9EF6-E20B10AC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B35880-1247-4214-855D-3491BE15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4DD9EF-7DA5-4020-97AD-E96A372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90BD-F1E9-447D-8492-428C4E6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12EB28-3887-4573-BD55-A7A5C4C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61C4C8-C7B5-41FF-A964-F7E2FA2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C5005E-B752-4287-A03D-9477E38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65F985-8F7E-49C2-8F55-DEBAEB5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65CEAD-C7FB-4B60-B0B0-5164D63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29DD37-FDAA-4AF9-9AC9-F5B0BCDA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BD74F2-86C1-42A4-89B1-11C6B5E6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353242-9A75-4451-BF8A-43556A8C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19C2B7F-14F7-4C44-B54A-A5F35CD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884E70-E59D-4FD6-ABBA-F0DDEDA8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B767-4048-471C-90E3-79FED0DD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113EF3-952F-4013-B398-174B3C5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FEB11B-1AB9-4234-9BF7-F3BB8EC0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EBCCDB-B4B2-4191-B6AB-0E83DAB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767D09-293D-494E-B2D7-A7B9919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9DED5A-8140-4BEE-B491-579BFBB9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6243A0-D8A6-4D48-B67D-6BBA508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5C7954-EE03-46A0-ACB7-FB782FB6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9C9787-89A0-42D9-BEB6-A4FF7CB9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97BD99-DB4B-4DAF-9E1F-0FB7B7E2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F5FAFC-B521-4AAA-BE53-43B5D4E2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E476-0F61-40E8-B8F1-FFC2A9B4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DFD435-D7B6-4A74-A5AE-0E2200D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18A021-BB82-4131-A54C-EDA25E7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6CB57F-BCF0-4B5B-9785-75F27430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9BABAE-F4EF-4156-928C-EE733E78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4A04D4-EFAE-4E97-A7AA-ED5ED15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92ED66-5059-492D-BC08-0C5573F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E6C868-E39C-41E4-9C2E-4D52557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A2EE15-A39D-4231-A695-E152ED9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F2330F-DA72-4809-BF8A-8744966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FDC66F-33CB-4D56-BAED-52036DB4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A7FD-BD15-444F-AF74-55257147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7D4CF2-638B-4729-9439-F78D17D2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34238C-DFEA-455C-8457-76639188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B136CF-087D-4187-B433-086CF39C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9651D2-CCD3-4FAD-8242-BF98889E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F48E5D-B79F-4314-8503-8253212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2508A5-13BE-4ECF-BB28-7FC06EB1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8F44C1-1FA6-44F8-B349-D38CE250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9C894C-C5BE-4662-AC80-6695CEB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33E6C14-A36E-4878-BCE7-64807B3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72E49B-537A-4E97-B11F-53C2B72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D0DE-63DB-419A-B791-E6609E17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6C700E-099A-4377-B4B1-3DD085FB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A53C9D-4E51-4FCD-8139-7B410625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F2813B-F905-4104-A453-DA61E323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2AF525-2EEA-4464-B6D4-9ABC22F5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48FEE9-D7B6-44CC-85CE-57D913A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8BE2432-C12D-4B16-8F44-65A0F87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318A8E-59F2-4B00-B70D-54F2814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529CD6-B0D9-418B-B6CD-9943A86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3C741A-274E-4E13-BF5D-7385524F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D66803-D45D-482F-8E83-C331540E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ADD-0665-4911-9424-6966D5F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6F4F-72D7-4793-A452-EFFD6F91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593031-A244-4F6A-9961-329A8982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2AAA7F-7F13-4613-B70D-DE7E519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B34DB3-ADA5-45F9-BD2F-4460D31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E0CE7A-1F5E-4038-96EC-C07204F6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550881E-FFDD-4DFF-89BE-1044086F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902CAB-F56E-433E-A8E8-D4298E25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FCDFBE-1E16-4F16-B738-6A6396C2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223388-2F72-4B33-BB0F-B444872B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A3C10A-32EF-41C4-93B3-22EF4A0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B4925A-24CB-469A-9CE3-AD44246C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EB7D-41BB-4DE2-BB11-0DACD36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BA3A54-0833-40CF-B89C-F733CF3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8F57A8-9E3C-4F2C-91F2-11D60D4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49F217-80C0-4C53-96D1-9DC98AD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BEB9DD-A188-4D9A-AD31-B02675D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8DD4D7-6C0B-4547-8AF8-A8710C9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565020-DE60-4D7D-AB8C-022D212C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D1F35B-E72A-42C7-B78D-1E792546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67D8AF-61F2-4BF0-86C0-40C045E4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3746FD-91FA-4BCB-837E-E6670758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1F65E1-B0D7-4BBC-82D4-25F68F76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EC75-2C60-4B08-B301-87665A8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7079BD-4A78-4B71-AE12-21F8DA3C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748467-729F-483D-86FC-9471D07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92CB96-07A2-41FF-B3FE-2C3AAACA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231334-BFD6-4615-8345-68F9473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546A9D-B95B-4E0F-BDF5-A6B947AF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C57B2A8-7002-4CF8-9220-3224D54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76F5F3-65DF-4B20-9E87-C4EAD387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C472E4-507C-4211-8380-409F3E5D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874B32-E0A7-4296-85FD-97344E78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3E1C93-E1FF-4B50-BD71-5B399214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935E-F483-4324-853C-F66DF23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B88D92-856A-42BA-B8FE-5BE8622E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33F06B-B21F-4812-BB40-165D99CC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522D079-8591-46BD-A2D6-AB007EB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2CF628-F468-4302-A5A8-907B45E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E6FA10-FCFB-4629-A0B3-CE5F2AE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A587BB2-AEA6-4E04-AA75-0C7E1D64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74C24D-6A2A-4910-8E89-9EB4DC77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745B96-7292-4CEB-BC00-C9F96D2B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169058-21AA-426C-A09E-604F7E1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72E65E-5CA0-4C35-BBD6-2BA6422F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6983-579F-4B87-946D-C822A81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5D9BF7-2B11-4501-BA90-A7D625F7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03EB0C-D8C2-4DEB-B9AE-C8D5E0B3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A99885C-F7C1-4236-B2AC-DE561E5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AFCF6F-0B4A-40ED-877A-1AAE5621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6F4100-E532-4D1A-8563-190C5332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00D873-8B85-4759-AC78-D18F6D77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8CD565-BEA2-4EFB-8BCE-0050635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6848767-516C-4310-815C-CEEC0B05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C6D6B4-0EFC-4E9E-BCDD-E7490EA3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F2C624-A275-457C-9998-4253F33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B2BD-505C-482A-BD5F-584855B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9F3935-15E7-4E67-82C2-0D431E2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9BAF4D-DF79-4CDA-9FEE-DFEBECC6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447850-EB44-4FF4-B2F5-2CAE8B80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BBC65A-F047-4558-8034-B2D4D6D2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BA1387-9FB5-4A6E-877B-BBB9CA1C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09284E-0EF5-430B-8D16-994705F8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1B7F5A-9EC3-4324-8EBB-1C8DC61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CE76CA-60A5-4EFA-8823-A18F472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601D06-CC93-47F5-915E-FC822BC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7694E1-95D0-4797-9EAE-51C60670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C6B2-DAFC-4EE2-AAAA-E375631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086B67-1ED7-47CD-99DF-42268312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815023-8302-4DD8-856C-DACF7F7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778B6B-FF5F-4B6A-8973-A44F303B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D10C33B-B3C2-4817-93D3-7C9D9E0C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2A1DEE-8003-43C8-AA28-B6631884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79E3D0-D06C-4FF3-AED0-3DE1682C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75186E-CC26-4993-B561-CBE8E18E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DC670E-098C-4C7F-B566-6BDACAA1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6ED974-6D3C-4EBA-8B57-9E842797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22427E-FE67-415A-B06D-D7A1928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7AAC-7F5F-4FF0-A498-E53374C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69AAAC-54BC-4E31-8238-B608CF8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2929FA-458E-4EC6-BEC5-2093E050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8BD157-F737-40B2-8D6A-E2F9BF6E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A815D6-5B2A-4D30-8C66-6778BF79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A302AA-8121-4C77-93BD-F1DC59B3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DFA6C6-5D2F-4828-B076-B7AF092A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3E7F94-996E-4E87-A5E5-E5C2DB62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D7B8BFC-2082-460D-9287-E4C54D1A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19024C-609C-47E6-A73D-4380C1E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5E2947-E85E-461D-99D5-ED26B2F2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4FD6-DDB4-4ACD-930A-7BBB21BB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94FF0C-484C-43EF-BB33-A5B664F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6ED1B4-7851-499E-AB83-7B2E121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7E101BD-AAF4-437D-9514-E0327B29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2B4758-2572-41F3-8EEA-8611441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5265C38-93B2-4869-8C52-F7F738C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F17B674-0917-4A47-88F6-8E1F4966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189CA2-FF3F-467C-A093-FA82EA6A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D868395-5B72-4A30-9713-DCC41488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20B188-53B6-4516-AF98-AF4F597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98952D-C0EB-4ECD-A020-FDFF133C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8821-9BB0-43E7-9AAA-73C42C83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4B01718-7B10-4F18-B019-DA3B1AC2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2C36A6A-82B5-4650-8C33-D52D37A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168786-DFE2-438D-9135-CA458E5E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79DFE86-0FC1-48A6-9B30-30DE2A87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EDAD6A-6AC8-4B36-BFFD-2EC098EA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156A32D-23D2-490C-BA06-20D236D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E99AC0-DA8A-4837-9EB2-B5C7F0B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7C82A6-917A-424C-8421-8058D2E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094B0D-553B-4708-AA46-5BF658A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7B1024-A637-4B38-AED9-230DDA21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384-2A99-471D-B047-10D7D326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A65B-FEF2-43B4-ACC8-5D628B83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82A402D-934E-4BD8-809C-5885464D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6469ED1-61ED-4D04-AE68-6A6C4676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12DDA3-4537-4531-8BB5-5394D16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27D8CD-E5B8-4822-B017-A65C07A7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BBAAA64-B729-48D0-85B1-F949ED6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374492A-FC0D-4DDB-A186-C6555568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FD32A5-CB40-47FF-9DA7-4557B8A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0B785D9-E9D2-473C-903D-DD7C084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C412D8E-2365-43A8-B8B9-80D2C64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918078-6C9D-4F94-8BF3-9F6E683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79BE-5462-4127-B846-21ED617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88275D9-8912-44DA-B7BA-13B312F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C6B321-0535-4078-9B0B-68FC863B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B00BE6-127C-4A78-B1BE-F95FDE39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EB69D4-E8AA-43D2-8572-063B0063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0D568F-8BA2-4433-B84A-361F47A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9C0137-E02D-4BDA-840D-4DA1546E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DB8C23-1656-4C27-8CE0-F4FE44D2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723EA5-DAD9-49B5-9C32-CFEB462A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EBE713-9883-40C4-9DEC-97A2FBA1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09E5E47-09A8-4A8A-B75C-0A7AE68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69CE-C594-4F51-8BD3-7A4312C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19204A-CD75-4C5C-A425-A56B3180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7600D99-C1B8-4413-A167-1831BDE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AAB9422-5839-403E-BB48-34D2C307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869769-7578-457B-97CD-F1A9B9BE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08D61E-2BD1-46EA-B214-0E48AC08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22B8B2-C6B7-43DA-BD52-06719D1B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207B9A-450F-4591-89F3-5286DF3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8447F2-7694-4200-9102-DBA24F48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EBFB115-DD3F-4DB9-8ABC-1039494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2C51880-6DF2-48AA-8D1E-CDE4681C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CE149-C683-496D-B299-3086590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6A8513-1D0E-4386-A201-95BC445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54866C8-EF10-4084-8087-5BDE412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DBAE592-BD07-443A-B769-DB850F5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350BEA-AA4E-403D-9210-794D204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29EED1-DFF6-4099-9C28-D6EAA9F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8655C1B-4F8C-4F26-9E58-405E2B66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5F13C6-1230-491A-AE30-A63EC591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1E467E4-6949-4146-B894-5E5920A5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9F94C1-8654-4D0F-AF80-3D2DB04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F8BCD6-3A19-49EF-B628-B5E34012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115F9-A00F-4ADC-9D77-0EC0F413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41D6EC-D285-4A39-B23B-6056F09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E42F9F-A3ED-48A6-868F-EE31688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BDBF0C8-8E3A-4853-BECC-0F1FB70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B6BA45-B795-4596-9CE8-1C380A4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1CC51F6-F2D6-41D1-BCDB-68E6EDB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12EACD4-C99F-424F-B873-FB438FB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A313F7B-83F5-4AD2-B031-C778029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DE4B559-85F6-4D61-84D6-01DDBF92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4AF82B-3500-43BC-B966-1830E429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84BFA09-2D7B-4144-A8A2-B5DB5414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56188-4C33-428E-BD85-BFF3E013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67BAE0-8F80-485A-8D26-1A2347E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EF0FC2B-41AD-4EEA-9DF8-70AD84C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F7998E-D189-44CE-A52B-0E83EC9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A31D7E-7322-4CC5-B477-002954C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E61A810-E198-41DD-8187-780AC4E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F7F421-8667-484F-85E4-C2618555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220D6D-EABB-47DC-9DB8-E0965FD8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DE4A4D-1097-476F-91EA-E8E2179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1FCD6AB-A5F7-4D3C-92FD-E746F9B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DCFF39-92EA-45D8-B0B4-1FA5BA8C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C04F-A2AD-4B3F-89BC-C20BA397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9F1C5F-7F1B-44FB-97D0-F8CDA6FC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D74645-5EEB-40E5-B1A5-C7B6E958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BD45F7-C0E9-47BC-97BD-704BB17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F28FE55-6C94-46D5-B45A-EFD1D81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A2A1184-C4B2-47FC-A8F0-8ED297E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D9DCBD-80B1-479D-A895-15730BF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FF94F48-187B-4525-B641-4566496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5D90081-7ECC-4AE2-9CB6-9EF93DB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0A4E64E-D099-47C9-9AF4-6B4DF93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957F37-7B15-4A95-B536-469F510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9A0CB-A0C1-4C42-AE82-513BCBF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A8A5FD-A90F-4A8E-A2D8-FE814EF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6CB1BF6-C00B-4AAB-A97E-DB9398BC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790D5A-09C7-4AF6-841F-4F39E539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8F5B21-7939-469E-8698-3DA96CEB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A496D3-C347-42ED-A5E3-06262E5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895E5E2-589A-4F9F-8954-A631B17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9A80CE-CC01-4BB0-921A-3C6D7EF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9B4A733-4F8D-48B3-B171-9E71D6B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805BC2-D191-46D3-BBAD-A4E641F3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CCD8F4-E2B4-4909-A6C3-11E77BF0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EFD7-9434-4532-9113-3CC6B67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E72183E-9549-444A-8241-113026F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20468E3-597F-460C-A9BC-5B9B980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A0F4D9-D68C-4329-AE35-6A7C6CBA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6EEF57-8E87-406B-96AB-A5382D33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91DDCC2-99D1-4A68-86B2-6C15D6F5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7774F0-874B-4C48-A923-0FFAD215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61310EA-465A-45CE-A33A-F4F3D76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C22B1F4-D220-4AC4-872E-43502AC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326F8BC-163D-4F0A-9312-1280F61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26C15D-E13F-4A8A-81A9-0E38610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A72F-34FB-4578-A584-37236FC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7D9CB7-43F2-4EEF-9461-B33C614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20B76FA-478F-421A-BFC8-C2E25CB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3DDA8B-FA47-4802-BA8B-61D1960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C9DB4A-5DA4-41B5-9CC2-FD6CE61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1C26FDB-58E9-4F70-ACC3-056AAF0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65CDCA-0962-4A5C-9CEF-AD7DD302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2EF4DD7-56D1-42CC-B350-F0311977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8EB5FB6-2CC0-4A31-A5CD-4BD7D5A5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4B7C41-E469-41E2-846B-13491963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09E5A42-9AFD-4544-A2A5-B7569D3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7FB-57B2-4B3E-94DB-7C81C9AE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23F07-DC6E-4C33-AA78-D4B0095F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A89AA8-5BC9-4E55-8D7A-BA5B60B8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DF3866-EFD2-40EB-A080-CD1FD28B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5F5F451-AA01-48CC-B0F3-B8063CA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61CF820-87CF-45C8-B224-41172520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664BBD6-642B-4455-8BF9-CDAEBB4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CAF62DF-D56E-4B33-B76D-D77F7A6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813F4D5-4864-43B7-BD1F-657E08F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E5CA8B9-9F5F-494D-9B51-28269A6D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38FEBA-D365-453E-909A-1B62FBD8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5FC873F-3199-4D14-A84D-7A2F3764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9D8C-26D5-46FD-B81C-4CAEF819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9F9991E-DFDE-4DAC-A791-DE772CB2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B047AB5-068A-4F51-BAAE-21D83EDA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DEE5C19-2ABC-420D-805A-DD3408CC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CCE3DDE-B47C-43A3-88D7-F949B5E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0C7BF5B-00B4-4D8E-9867-F0A17D1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FF85B43-D23B-4569-81E2-B0CB9424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40CD593-B10D-48BF-A080-1D067AA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9B72AFB-9632-464C-B94B-8203935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4D0BD07-7744-4674-8345-EEF46C7D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00A880F-6B9F-44A9-9FED-D8DF4D4B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397D-8404-4D46-B214-7CBCCDE3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F95D7D-C8EF-4C67-A0AA-39B0BE60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08A5018-5BDA-46DA-8CEA-C9F10733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C3C690-A383-4EF8-9499-78887D9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55182EC-80EC-4192-AD5C-D26942B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609C41C-BFDC-494D-83FD-573E3DF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5EE740F-9DDC-4E6C-8FA5-FD8F9A2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74CB9C0-25B5-4085-8A24-D7259A96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61517FF-30E2-47EC-8580-817389C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588817F-80F3-4262-8335-7259AD09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2B17590-00D8-4463-9070-731D3C6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71D5C-C6E7-41B2-9273-F64B9C9E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73FA724-6719-495F-B47D-8D65496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3D41304-7A9C-4F49-95CA-E7F7C76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F83E060-8131-4893-9997-C06C196F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9291055-8ABA-47E9-9168-225DF293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39B6159-A95D-4223-A1D7-35DB75C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0D43D59-0A9C-44F5-BCA2-0D8CB41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3F6B1B5-D6C1-4106-BF1D-BDB8987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21D86CE-9FA1-4CC5-B26F-5FC9D49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3307A7A-1D21-4562-BB88-86633237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6DF4BC6-8307-4D4F-941A-7468AC6E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6D56-94CB-47D2-A96E-C0A17859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23FF79-6D22-40FF-BE63-7373555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574CFCD-1AB8-4128-B64B-057D667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C0AB4F5-0D54-4155-9B90-61B4AE6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7208289-76FE-4AE8-84F7-2BD51AD3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8C14265-45E0-4CC6-AAAE-BB049278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8FAD011-84B2-4387-9854-62C93CF5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45B4D51-B47F-4738-AE17-0F96A62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8C0B466-8972-4809-B357-7045BFD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5FF847-3C35-413F-A0FF-20250E7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64A624C-F663-40D1-A05B-7DECFE6D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3D09-995E-4C44-B5B1-6F66A74D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8BEC1F1-FFC9-471D-8D93-EF07C1A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74C6D15-335C-45D2-A2CA-4B5AC47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6D565CA-5E21-4CFF-AB82-8E8AC4B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4C8C805-B7D1-4BE5-AC1C-EAB5954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F06551C-3080-47AE-8603-3B0C7B0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81248D2-79E8-4715-9E0D-3B063613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1427B77-6837-4462-9899-F4C27FCB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1895533-22F5-4FAA-8FD6-085C1380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88CB8315-A9AC-496B-8F44-36C6DAE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8D7F4E1-0AB4-4625-8D62-B9919987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2E08-7F64-4EA1-9E7C-634E8F25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F5E63F3-C96C-4452-BC87-F7067903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28E2874-BB6B-4AF9-BA81-AF0C02B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AD3A643-BAF2-43E7-963D-BCB7245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C346F81-0AE6-4336-9790-B2659EE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9D9FE5A-D1B1-4F9C-BC0E-90EB726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02FC21D-DBE9-4F44-8D84-DE010492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8E56BBA-36A9-438F-9062-E7A791F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5785C74-4D6E-4377-B000-AA6F6784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53A7DE1-D82C-4594-A8B0-57D241D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3065C46-320C-40AA-AEB2-4996FB06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7C83-338D-4D2B-A957-2338BA54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018C72A-279F-4307-A394-551FFFC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5F04B21-C419-488B-A864-9F75549C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4982FC-CAEE-43A4-8F61-E9BC5BA3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A66739D-CBB3-4F05-865C-099C9B5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1688E44-A886-4CC5-978A-2DA9D4D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198CE8C-0CA5-4292-A181-1D141B6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DF7F45E-DD80-4F31-A24A-0FDB882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1C4DE2B-4A79-44F8-91E5-8CC0F98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FC57DEF-537B-447E-8C41-52C21440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15E205B-69FA-492F-A3FD-9EE749CC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5B23-C6E4-461F-B598-2B79EE7C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F7CE1CD-54DC-4997-9320-635C35CA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C2559C2-8B9D-42E6-ADD3-9448EF51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02BA64F-7381-42C4-945B-507645F7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9375D4F-1EE5-457D-9AC7-F4B2340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1F722E9-5CCA-41FA-A174-C827B60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94716A-E92E-4A59-8055-BC2B790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23C8504-4F0B-4D16-BF66-0CA3A227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360A41C-8573-44E0-A098-8C1BF63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CEE3F7-10E5-493E-B96F-2DA9165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335A58-228A-4F23-B2A8-CCE0DF8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1E3EE-355B-4243-A910-616883D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ADE9163-AF13-42E7-BAAC-1CE7EBBE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98EDC0E-97F1-4693-9072-D1F74925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4772A95-6F93-4D56-BDA2-E533F098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0EA1784-9755-4A2F-90F7-2FB8AE11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0D00C8-2DD0-4E96-AC5C-47E189B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D39BADF-5D41-4969-A78B-C948420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855C8C-B3C6-46A9-8EAA-E2E5C676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59AF141-2B83-4E5E-B6C0-4781D427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904E58A-E6B5-42E1-830D-2C99873D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0BFD5E5-62BF-49E3-8270-5E8A259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434-0816-4801-B134-2A2C4F50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91AB3-0573-4CA4-86F5-0B57F074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3762DB1-DAF5-4D7E-BC10-3CE2EAF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FF15CF8-0FF1-45CE-B25B-7BF6F93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6E07818-3DB8-4A72-BB92-3441D57B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D1443DA-6E9D-4128-8719-EE553C7E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8EDCCF7-E376-491A-A98B-146C29CF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0A5256F-FC90-404C-BA55-B8A701E9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EE849F-5B7E-40ED-8E50-B4B2CFE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DDCEA8-076A-4797-942E-CC2D9E8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4FB88C8-43F4-4A51-9F94-4A2876A3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8B4B5C-93C3-4B27-B182-446F3CF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1D46-BA26-4A60-BC3C-D824A56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6043A4D-7559-4BC7-867E-11B30F90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8F993FD-E5A9-423F-82B9-7E8BA2D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EFBE252-49E4-45BE-A934-04887D2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05ED2C8-1AE4-496E-B3BC-49B7150B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BF6965-9255-4E0D-B0E4-5B5538B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C1586B9-2370-4F9B-B87A-4BD7EF36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8C49E95-6E8B-4F0B-90F8-7FCC0CA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9EB0AD2-716A-4DDA-B66E-88DF141C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DFAC9B1-278F-45EF-8371-CC4BA45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6165C2A-6F4B-4E2D-B943-F51583E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96B2-DFC1-40D1-BD30-F3392D87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36B361C-B74E-4D07-817A-24E8FA3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249CF09-DBE2-456E-8AAA-83F324A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3AFCD45-0946-4ABD-A213-5E624CA7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7B12168-BC82-4352-83BE-4EE6541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98FC414-1398-42F7-AB79-96CC774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848A1F-0E3D-4547-B18D-52E06C2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E84505D-F723-43C0-B36B-39D1B203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030BED8-D98B-4CF4-A001-54C77E6B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5CA73F3-B874-40C2-9785-B346CE3B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4F7511C-87E1-4B10-90B0-120504C2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9135-C874-4719-B799-4379F9C0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AC8ED78-A242-462C-A6FA-E0DF931B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E307E6A-220A-4B78-A788-F0EAE52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576EE89-7B8B-402A-883A-4EF7E498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3546278-FF0E-405B-977A-C7719D9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965B8D5-F499-4951-85FA-DF0ED206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9B55A6-C968-4DD7-B3E5-F43D3A9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ED1EF93-7A1F-4449-B970-33961A0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CA87F85-12F7-4BE2-B163-644C2FE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C20D4C9-8C99-496B-9E15-053A966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AAC844-A437-4CFB-8C5E-076FE491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61B1-4BD7-48C1-8FAA-F9730117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A9146EE-ED4D-40FE-A125-E9289445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0A63C61-9ECA-4CF3-A7D0-BFA4451F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34BB59B-65AF-4DB7-A95F-034C31FD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D5B2B39-E2A4-4FCC-97C1-92D840D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5C94E8A-BB3F-4ECA-97DD-91A2CD2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97391D6-FD6B-41BC-B8EF-C884B5F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A22A594-BAF5-4D15-A2E3-79AB6CA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A213FCD-AEDB-47C7-9A83-FD03E55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D3CB518-9D59-47AA-9AC8-AD4B415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7AB5F95-0695-423A-9C93-99A9765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C0E5-1070-403E-9E2B-A5D64587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B8FADE1-94A0-4094-BF21-976F5E3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DB3F675-0C00-4F8D-B379-726940FA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23C8968-F34D-46F1-8D80-47C2C769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077FBF-B6FB-4B33-8E81-5DBF618B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30825CE-6715-4C76-80BC-48EE699A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DB8A894-F5FC-404E-BCE6-056DB1AA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A457C05-8F6A-4091-8EC5-BA80069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247BF7A-D66C-413D-BBFF-12CE4C17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2A3C096-3030-498B-8BF5-4A48CC5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F2F2F6-2859-4F61-9D86-D1A753F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3BFB2-E776-4ECA-855E-1416BF7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BDF3CAB-C6E8-4F58-98AC-61E658C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165025F-5E3E-4678-944E-65A95F1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092D58B-94F9-4188-ABC3-4775E6B1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95D2E4B-40ED-4948-A041-E705D731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474B3E8-C50A-45FB-A769-8A55D066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062C080-D709-4873-A69A-C3EBBBD5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202A409-0DA0-4A2B-94B9-C8A98143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391B078-B2F6-4036-9B4B-09929472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41C9BBE-1AB4-476D-A10C-F243A3F0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4CCB446-D52D-457C-A1A3-542225B5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8C48-AD8A-4AFC-A947-0C4D069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6A8895D-0BD7-48BE-9F10-A0D39C1F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E811592-7681-4730-9C27-09EBF8B3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74D0F69-16F6-47C8-A16B-57AAF28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5366822-3FD7-4E59-838D-6884412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9C30353-E506-464A-97A5-966B4EEF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5B7C08C-D296-4685-AD85-333E3934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C2BB15E-C292-4AF2-8746-1F7452EB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7286386-917D-4BF5-8556-38AD0B66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4658AEE-9826-4D2C-AA62-410F170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B138982-CB34-43D2-8B06-47F5DA0C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43BDC-656C-4D5B-927F-3CA97BAB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61DC243-7A92-4EE8-9B58-8523F34B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0E592CD-D1D8-48B8-9B1F-CC5020E4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7F82BB6-E045-412C-9FE7-245C55DB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1C1C3E-0994-495E-91FB-22B9FF1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E5A8A69-29B9-4B43-9E90-AD67DC2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022FB1-AC26-4CE1-ACB2-C09EF94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D2891AB-2CB7-4555-BA45-EB426154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714C507-24B5-4F96-AF5E-189DF7D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CC2787A-DEEF-4E75-AC4E-13E45FAD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98AC01-9EFD-43FD-83A3-5873B342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3752-19A4-447F-9C51-9D95038C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48DEEDB-E64C-4198-A1F7-F763ED91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59BCEB0-4324-47F4-B841-D121856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FB82375-37F8-4904-9733-483A826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DD9E34-38EA-4276-908E-9CD3EFCF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8F985DE-7B53-452D-B8C0-A290BA3D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B7950AC-5896-4C2B-ACE8-4A9B757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E2AAB61-A1F5-4B95-813E-B22FA49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045D2F1-3F20-4997-A4C1-2002C04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665E06-D0FE-41A6-BB57-575B3FF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7F4A096-8457-4C2A-8571-50E52D27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F19-22CB-4598-838A-4A6128A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A7DEA-D3D1-417B-9FFF-9E8B01A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1890989-4DC3-4877-8C82-AB9B538F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5F65CA3-8E5E-43CB-9B4D-067DA076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7174828-406B-437F-A215-CC2B563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83F5822-25AA-4B04-8FD3-EE2A15C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CA27732-D92D-4BB3-9CD4-72B58F5A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31AFB38-24FA-4142-BADB-8572BD1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8ABE593-B874-4B83-BA43-40513B53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5824D9-97FC-487E-83B0-BBF34FC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93EA387-E417-4903-AE7F-925C0E23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A8833CB-29DF-4F2D-A567-436E1CB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E4D5-430A-4DE2-94D7-7846FFF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3F26ECB-C454-4D8C-AB64-B14C9C08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4F43408-E8B9-4A38-8B5C-992C2789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BFC63F4-0F2A-49AB-8CF4-F7E8316D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E75F0B1-3863-41CF-ADEB-42E80D4B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76BAF59-B567-4683-B4AB-3202035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D4791D1-AB3D-4EEE-ADDA-54A72E8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878D5C5-629B-4517-BBA5-937C732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3360DEB-20C3-4F90-A300-3A2ACEB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995A21C-1139-4CE0-962D-B555E81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50B1876-F56B-400E-8497-56F3525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03F6-79DD-4646-B939-892D849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95EFC2D-876B-458B-AAAA-48A82AD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5E57030-A6FD-4437-A05D-B98CF78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CE70568-BB34-412C-A691-C8EC5EA9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883EDFE-8F28-410F-A29F-C8E9C693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93BFF30-927B-4E2C-87DE-C50ADC74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F80172E-E3CD-4A56-AFD1-F0D13EB8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5B57665-A291-43AB-A1BF-2D41670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D7FA828-05B1-4FF7-A337-980E4E43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966DCB1-72DC-4B95-AA8A-335E98E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101FEFB-A4EE-453A-9A42-1F68EA1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9DE41-FBBD-454B-AE8A-FA4606E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125249D-AF35-4AEF-A3A6-5E4C6B6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C28F4A1-1848-4039-8127-1618599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EE5686F-4432-46A7-A71B-2C23044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E52EE8A-9DE6-4B6E-B0AA-5D4E00E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ABF7A2F-12B2-4A5E-AAA6-9576D93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539244D-834E-4C4A-89EA-52E31FB1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88FE9C4-523F-4928-B4C6-45F118E3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2533F61-F2BD-45D3-BA7D-4DF4BBE9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EBA44E7-B019-46E3-A2EE-4C2DAE80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594E8AF-D9E2-465B-A1AD-FC05EFD7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07A23-B02D-4ADE-AFE9-58FDBCD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244EB11-C276-4133-A35A-AC14259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D1882B-47B7-41D2-916E-2C652A9B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3FE832F-8677-49C0-B5DE-6E92F2D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37F82A1-BC6E-417F-B56F-AE80C29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2DC22AB-240F-4458-BE98-A983116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7ED8317-CBF7-4FDB-B981-82B905A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3F0EA0B-AEC4-4E6D-8C6C-4E7CF637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DAD7BC-FBDF-4DA4-8D69-2F9FDAAC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94DED4F-BE2E-4D06-B3B0-9B8A3805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ADB5A50-D973-486C-9DEE-C731B3EA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CEC6-E88F-44BD-8235-E74E1377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986835A-74BF-4DF5-B820-A02D149D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2580AE8-EE26-4AD8-9C1D-EAE27DC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B6256DF-1F05-4A8B-9ED3-55DA3D2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6B05115-A290-46D3-8A62-53BDE13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83AE1F-2507-4900-AE90-B78A7D0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D284CD9-2B38-4DC1-9813-2A2B5F22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28749DF-F5C4-4483-9C7F-1485C9B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F08DA9B-5321-462D-8E7D-BB61417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18F8EEC-BFC2-4833-888B-F48F016F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8557FA-120A-43BB-B8C4-0D9C2C78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537D4-4623-47FB-8AAF-9D7C9086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0E24D02-24BF-43AC-8000-127695C3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9565716-D577-4F7F-8CF0-2C38E81E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A9E8BB5-016D-4777-B3C7-4F8E1E8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A4F6BA1-C798-4005-8258-911787F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D7F1E70-51EC-40D0-83B0-6919CD16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802E430-59FE-4F0D-8715-F531E41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1A03C48-9CE7-44CB-AB38-A420843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252ADEC-6A78-4480-89B8-AD07918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E351A1E-7EBD-4AAB-8DD2-D86B6DA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B45D96-FC20-466E-91A2-FDAF187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0B01A-37B0-40E1-9988-D73EF1E4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731E217-FE3C-4BA1-A86C-A901756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A2321F9-B9B4-43FD-80C2-3536B430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BCEFA9E-9EE7-4C1E-8A6D-59C5744E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9D3B8F5-8DCB-4066-B3CB-C0FC9D47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7EB3A8C-B2B8-4986-8970-5E78E611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2B1FB2B-FA2C-439A-B828-1E15A75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02C640C-C078-431C-AF53-C0AC4F5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E14B2FF-9573-4029-922B-3657C4DA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F486527-0C1A-4BB6-9D5C-D3776179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A804543-BA91-4FBB-80FD-A2BC1BD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873DB-FAA7-489D-A7A8-628F8404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E5A026A-DD8B-4BCF-BA9A-9A8345F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4BFA355-3C61-4EAA-AE69-AC13740C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3A682A5-6E63-459A-AACC-F68C348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3340563-AD3F-4B00-AD9A-58057D0B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E4AEA6F-122A-4605-A0AF-33C7D2A9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E89451A-3ADE-41D6-B39E-DD32BD59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5509125-3122-412D-BB26-BE30046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04134F9-0755-4939-BF6D-FBA2247C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475CFB0-6227-4709-8A45-3BD211C8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90ABC61-5D6F-4097-B65C-76D7F2D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FB94-91C0-44F1-9950-3015968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694FA66-BE57-4CD7-A4C6-C4D9591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674417-36F7-44E3-95FE-BC30CA0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83224FB-28DD-48EB-AB25-E680145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FFA7B76-B92B-4A0E-90B2-AD78D80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400A5EA-70F2-4FD4-AF14-1DCCD232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CCECA88-FC4E-447F-8608-880ACCD3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CE9C94D-A169-45A7-B6EE-6DBAB62E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83510DA-9D01-434A-B38A-6BB17616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C9BF8A3-6478-4F31-B74C-28D3B22A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16EE57F-C080-4D35-B8DB-49A3D38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02CB-B2FB-45F0-B673-CFEC2FB175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141-0BCB-48BB-9548-CC2DE2EADF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845-13D1-405A-9FB6-855435EDBC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3B9-19E9-4DF0-9D27-11CA37C2B1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8B5-9BBE-483D-A4E2-1166230471A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B05-4838-4B0E-A065-B539122991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927C-C2A3-4435-93DA-C1F4F7A4F18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274F-483E-4D5E-9462-45A5CD8122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8C3-DFF3-4590-A10B-F5C4764C231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BF9-7C7A-404C-8B93-C67E1D5DD8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622-39F8-44AC-A4A2-317F74F6DA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0ED5-9680-4F02-8CE6-0D4F760531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AC31-D368-4145-BE37-B424CE8247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580D-1B61-4EDB-8E8E-18E044697F7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37C5-7E3F-4DC5-ABF4-CD6AE10AD5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2224-8D92-4A12-A21A-929FC5CB11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AB1-C374-4532-A4AD-B6A2DEDC2B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C6FD-4912-4E8C-AA62-E2D5CD4601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C87-257B-42B2-8F59-9427BE7DD6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D61-90D0-40EA-9A67-9A3F229D96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B83-48C6-42EA-A98B-DDA0D1053D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724-8B53-4DC0-85C6-B6F833789D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EACF-6D4B-470E-A154-E9262E479F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6AC-8714-4D37-834F-D4E6E5B838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574-D017-4070-95ED-002EA9AB8F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0F4-3263-4B52-80AC-1B4A83E840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C5D-8D88-429E-B517-7754F987B2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149-5AA4-476D-9B5B-6B59BA12D3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A16E-F83E-4D87-8BB4-8BD05AF55E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E382-65A0-4D03-9C3A-F55BE8CD40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6B0E-4AB9-43ED-9F0E-F2A38F415E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BAD-025E-4CA6-AEA0-BF143D71F4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8F4-7BC9-452C-8A9B-414DD92E18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39D-9B8B-4461-AF81-A3FAF8BCE6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840-3202-4D70-99F4-9DD1B957DB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ED8-4B4D-41B3-85E3-FFB1E0F6E7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758D-DD28-4080-A0DD-7C9385B84D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B2C-8653-4C91-AEDF-34F126725CF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D1B0-F84F-4A0A-B562-DD5810416E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2AD-158C-4969-9B85-A9862024AD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50AD-00DF-471E-A77F-5927FE0B4E5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A17-50A4-4F02-8BBD-C4F46819BE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202-EEC9-403B-A6B0-C2965182E1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EB6-76E3-49B8-A5CB-2E98F598DF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79B2-0203-4E67-82BB-555691D007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F754-FE66-400C-94BC-5BB0AFC9FE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965B-7764-4DEC-8D75-E38675390C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0D5-3DF9-4E0D-AF3F-DD361C2514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293-60CC-46B5-8028-F7BFCC70E35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0A6-DACE-4010-8931-D6093A69C6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2E8-A85E-40C8-B668-CB63181E1B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41DB-257B-4BA1-B963-F6592C3E18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2E88-AE5B-4B2E-9572-9201D2F7C3E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2E78-A610-40CD-B761-67A69E3858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F5E1-1E1A-4026-B7E8-50202EA8C3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12B-007F-40C0-B1F9-CC92ED360F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67E-F488-453D-8558-10399E0A46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B26-55FE-4683-B71A-10EE53B8BB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49F-A09B-4506-A583-4A88B9120A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B89-719F-43A8-8FB5-B560384E69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DFE-C77A-4413-8330-17BB7B5F96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62A-6AED-4C5F-92E4-D2B7C27BF2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3D6D-7473-4F6E-A4AC-4DDBD5E66C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F253-62C7-4629-BACF-2F9875C03A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55A-8CE3-454B-9234-481DB361913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2F68-97A0-4E0C-8890-00845D02174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3198-87F4-43CF-981C-BFC287E43B4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7D7-3CF1-4758-B843-C619AC812C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AE2D-57E8-4827-8D7D-89D2374003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38F-4DB8-445C-B2E9-B63E0B6D94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17E5-D71B-4C3D-BD27-F2A5B8C558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EC52-57AB-45FB-9752-A12F6C339D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28D-D57E-47DB-8E45-55FF20E620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0491-AA4B-4D4C-9246-EA10040B7B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D1CF-F358-4A20-9F41-67048A019A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F46-D31C-4513-943C-40F77A8E1C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DA1F-FAC5-4B18-9041-DA10A6C322D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2C6D-D386-4D40-B614-0003208C1F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0EA6-DF1E-4091-855D-4BDF2806C0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C00-D649-4246-AF55-403D201127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15F-99A1-4D96-8124-D08C6CCC0D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0AD1-C71F-42A7-ADCA-22B0C79701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EB1-63B4-433C-9C4F-60FB93DF630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2E6-7E4E-4CBE-95DC-30F1E87890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C0C-75D8-49FC-B80B-08507F5E25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C411-913D-49A1-B004-8CC5D6D2B3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DD2-1804-4376-80B7-6AC6B674E1F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2518-5B8C-41F1-8159-9E27DAD58A1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7D2E-FD4C-4DDD-A19B-C1845A8E15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275D-8CE2-46BA-B27A-AED9D02958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20EE-AF97-44B0-90EF-5D2174E06C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E43B-FA34-4045-B37C-AAC229C5D0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4C97-AB30-43AC-83DF-6B6B81D748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C58-566C-4D2B-A4F1-4A587E48B5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AC2-EFEB-4820-82E1-2D76793C93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D7A-5C92-4995-B555-FFA70B9953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15B-B138-4EB7-B0D4-75EE908A5E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3249-BA7C-481E-A17F-BC079A5094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DC1-02CB-4B40-9ED1-29A4954A45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1719-C277-4EB5-9947-889F5DE880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881-CD42-4C28-8CF5-D023669AAA2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5ED7-7B40-48AC-B875-145E0AF194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4E0-0AD2-497F-B9D4-5AD9A92239F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EA0B-C985-482B-A2C9-B3DF106D4C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BF7-71B1-48C8-9DCE-CCDA8DDEEB2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2A83-BB22-4EA5-9CBE-1F9003F92B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67CA-2D0A-4D8D-B31E-B18F180EA6C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BFCC-BFDF-471F-B566-F0FB38F5C57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E773-76FB-42FB-B52F-4DCA6F6780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D7C-34D2-4C84-BD2A-2CE6A97FA98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7C6F-61E2-4A12-A45F-AA05A3CF6B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5EFD-D6FB-4B1B-BBAA-1ED72128761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6E85-3B54-4CFF-B19F-17B80DB5E59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FC6-5CEE-41E4-99DC-9DE493859F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2A6-99ED-4111-80BF-DBD0918051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3C95-04C1-40F4-B761-120075E5C4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4A4-DA87-4E12-9EAC-881798233A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15FB-A088-4161-B3D5-7709549D92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6EA9-206D-448D-9E86-37BE19E71E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C09-B3EB-42E7-B2DF-4776BC1027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4431-D745-4873-BCFD-CAF065EDEE5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704-6BB2-4E4D-ABD0-59EFC7E30C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B60-74C1-44C0-8B95-274E83A298A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CF28-7DC0-4A23-BA8C-9E68D1F1D1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91E-4988-4527-A294-E57FBAC3B2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7A87-851B-4D7C-894A-6D4F50F71F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E37-38DF-4FD1-B276-008EF011E5F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C68-6DC7-4FDB-8537-FE405BCA1E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DE6-9BAE-4CC7-8E6A-EC4E43F364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475-0B77-40C4-B9EE-D79B74ECAE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1EA9-A197-4C3C-9FBA-A1A057F020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2F6-5AA8-434E-B4C0-D23E412775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0EF-8241-4A59-9760-10BDF91D8E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F56C-6BB8-4B25-A3C3-65B6CCF86B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1B67-5701-4821-9973-9101254C40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3E3-FC5F-4325-B6AF-EB16B6FB8C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66C8-A31E-47B5-8FDE-F3A94ACC4A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CAC-6DF2-4272-B93C-56154BF5FA2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5ECE-E7D6-4486-B1B8-BFC2B7645A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45FE-07DD-42B0-8827-D843A71298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38E-E93D-46A5-B508-B68451E485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681-506C-4D9C-9B10-7EE8F99904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356-BC40-44B9-89C4-105D297DFF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547-C982-4388-BA73-2334FCA863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E0E-5B39-494D-B578-F1B19CD8BD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D62-901B-4716-8F5F-C1BF66BA4D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629E-8228-49CC-9255-B5CD80D2D2E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4A2-B668-4665-B915-9DF2A827E76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0A5-B575-46BD-81A4-5167940305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2DBC-E956-4005-B27A-5D4B49B6FF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AE29-B0D8-48F7-B39E-349AB85396E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9B52-8EFD-48F7-A30A-6CADF04140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857-FD4C-493E-9FF3-C662D9F1EC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2C6-C219-4F78-B569-3C7AB56A3A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728-DB11-4670-AC02-80EBD4C890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0D85-F575-4805-88B1-FA9BB9FAC3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D18-0109-4D36-9CEF-96BBEC6288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782-A92E-4EB8-B9BB-FDD03C9C26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9D3-CCF9-46A1-81FC-2FE9094CA2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6CF-9907-4855-84D3-75A58A14EC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F532-4FE0-4376-9DC6-2271E03D1CE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456-FA81-4C24-AAEA-0B37A0F8EB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365-B8F5-4E07-B13B-9EE0BCACBF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B180-B31D-4E82-987F-AB94E7849B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67E3-722A-4724-ACFF-F292D28DB6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287E-4CA1-4823-A4A1-9A00EC5A8B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94EC-763F-4816-A452-F4BBE025D57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0BDC-1A71-45BD-85FE-BBFE18A505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2435-1B24-4A3D-B37D-4129135A6CD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71F-BCAB-4790-B5DA-B05B2F756F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AD9-5CD1-4747-8502-C2CF92A024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2AC-7E62-46CE-8497-2E435F15D8C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605E-E4FE-41F7-9135-6BD702789F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BE0-BD25-4428-8FB3-20B2E8E94F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75DF-DC05-41A9-9EA0-9036E88FDAB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2F63-4565-4BA4-A251-331C055B9A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D07-8046-4055-B914-D5842CF0D3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9409-A61C-45D4-A8E2-09A1D88E52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3970-8C83-4BDA-AA38-B61331B6961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584-DC8B-4702-A370-2BCD2B0BB4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95A-1BCE-4AD7-A023-85ABFBB92D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4AE-178A-4D5B-98F5-6EA16F2431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FB38-7FD6-458A-A1AC-6E32EA721D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F75E-B6C2-4FA2-B0ED-884EF3E4BE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518-934C-43F5-999B-468AE7F101F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743-BE0F-41C4-A044-6E0B7FBBD4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8FD7-B325-4E2A-9D61-ABFD702F52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8DEE-2196-4881-B5C0-3D6A1FDC2F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59B6-1385-4383-8AF2-D10C8B0CC8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E2E-4FFA-4BD8-9C27-63EF475C05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D7AC-19DC-4B2E-997B-4B1D652AA8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A198-BDAE-457D-A0A0-A2EB4812D7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C5C2-B21C-479B-AB10-58D7FC5A651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00B4-049F-4D00-8CCA-68D9348192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E465-9372-49E6-BAD5-F21E6551C45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24E-EF4A-41DC-9834-0BD91AAE5C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2E1-D98B-4130-BB7B-12E958B84C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A896-11E5-40E0-A866-846D429667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3F95-64FA-4DA0-A6EA-2CC02C5490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BFA-5178-4100-AE11-195D98A37B1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C9C-952F-44A0-9B0A-D84E5070509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E1EA-1CB0-483B-A64F-47A32553C8A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14A4-DFC7-4D22-AA46-10FFEAB535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C15-715C-4E4B-9D12-E4F78C3237D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78A7-38F5-4352-8B18-49C799C006B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47E-4230-42E4-993F-59ACCDD97F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96EB-6D09-4D49-9CD7-874DED1A0AC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430-A0C5-41A2-AFCD-C539B68367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A068-F995-4C83-9ECC-EA97990AD3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8334-CF74-404B-88C6-4B388DB555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51B1-5B09-48E3-8622-BE4E38A918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884-2160-4297-945B-7EC6215CC8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5C92-71D9-4C5A-8F65-0409709B36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6EB-65D1-4B70-8DBA-20F69527CE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7A90-157B-4F14-B4CC-45F5E52F07E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FCE-2CC2-4D57-94CB-1E6FDF8906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0F9F-560B-4454-BF86-C82923C0335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8CA9-5952-43F7-B6B8-F954B3BC65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BD75-6B1C-430F-9EC5-A0D9508D17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1F6D-D8B7-4187-A3F9-8CBB25F671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351-32FD-42CD-9D3A-5BD578414E9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CBD-117E-47F7-BC76-2DFE0F3CD0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5E0E-1CDA-4B34-ABD1-4102D6C51E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8E63-1727-4C79-9AAA-8DC58A5077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E55C-5BF3-4049-89EB-A5CD5B3591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60D-BFF9-4F8E-B768-2B95C87B8F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7FF-3541-4D76-AE88-601E91927BB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0E37-16C5-4862-9716-16C34CDA3F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13C-F44B-4487-AA89-4C539B0AF6C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C73B-1532-40B4-9A82-8A76FA5B5D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515-D778-4DBE-BE91-549E75B1D84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D85-D3CB-4A27-BC11-8D9BE87640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2614-908E-4B63-A586-0EB7328CA16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B35-08D3-42B6-9536-456721AE43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783C-4AD7-4339-B22B-0F3FBF7C31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F823-BADD-463F-8D8A-ED01744EB3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9EA-6BA5-4685-ABC5-3A8A355B22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8DB-F7AC-4065-A30A-DD697C5ED0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19E-8BA3-4BFB-8DF8-0ED27CB8781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F8F5-1349-4E0C-8402-61BFEC4858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95D1-4BAD-41A1-A318-7C0FB0763FA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697-3DD0-4FE1-B131-7B8BA21919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DF7-894E-48E7-B0C5-1F2745ED3B2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AAB9-EA07-465F-B1B1-534CAAB559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CE6-E940-48BA-8943-58C4CF708D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A9A2-49DB-442C-A022-034FB868B6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9F1-4259-44A9-ACE1-9DC1C3D1C4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516-E591-4D4E-A587-7C2F161624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540F-1DF5-48C1-A63A-0B0B1405841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E647-FE78-43BD-88A6-A6F0E8ED9F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AA2-9F6C-464E-A0F2-A7668A3559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3C7-1A48-4467-BB42-889D81C589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B0B8-C6B1-4923-8B7B-4BB0D2A1C3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471-30A0-4CF7-A410-8F5F74DBCC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C88A-B46C-4DC1-BE88-98F63FF55F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18FC-A9E5-4F0B-8106-7141E4391F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202D-B868-4E85-B555-D87E5D0D6E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CC6-ABED-486B-84FF-2551E7C93C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B044-B8E6-4B66-A10B-F22877891D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96A8-00E6-42FB-B413-43BA0FDEE9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856-7327-42BA-A938-02903558B14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38E3-F6F2-4F24-94D7-F4A4228518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7C75-0137-46E5-84D2-D9CCDAEACA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77E-C8B5-47A9-A361-7CE473D7E2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4BB0-87DE-4C23-BA85-A7BCD5471F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715-FAA4-497D-8DED-E5C43C7BCB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102-29AD-4B31-92F4-10E09D407F1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37B-3D51-43CF-9486-21D84989A7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C69-EB71-41F2-872F-495FF66B6D7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275-0824-42CF-945C-77A5D16C78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ED7-2B8E-44F5-A714-531228FC83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E673-7FA9-4D9B-AA2B-C10C2CC7058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B945-8880-4EA6-A560-CEE06AEE18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23CB-6FB5-4838-A460-2B53AD6452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AAC-8E68-4DDB-9A8A-0724FE15C7D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EB7-F736-46AA-9AB5-AF45D73364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0633-146A-47C5-9807-8380A8E359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F2E-ECDC-43E2-81BB-34CB585B44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E678-1695-4573-A5CF-B98ACD764B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B42-BBD3-424B-A836-E0D65853CD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068A-5DC0-41C1-8166-B2AABC011E1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2763-95CD-4811-8AFB-8D87F421CE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053-D717-4577-B274-41D1360B2E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389-CA2B-4B03-AD65-587203C4D8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C25-17B4-45AC-8F65-6A314C5197C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737-0D2F-42C5-A663-9B18478A48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03F7-DFB9-427A-B6A6-D956A67F119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EB97-B3F7-45C5-926D-118D20367D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2AAE-097A-4645-88A8-F32AAB9068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844-CE01-49D0-BD7F-01761E4E7A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EE2-34A8-4887-8CB9-414D887FAF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F97D-5501-4CFC-9D55-581A57861F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A86-C72C-491E-A394-36BFE75F1C3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C68-7815-4158-8168-D3F23FA05B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EBE-3130-4CB2-8BE4-ABABEE30E4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52E-88DF-435B-8CA1-32096F8355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F849-639B-4827-BD61-16A5A66E9A5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631-0AD1-47EA-854F-5E9DD29685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41C8-A23D-4CE8-B516-99015EC035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05B-0A3C-4B8B-A8C7-A27B2C1828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99B1-D923-47AE-AC5E-4C6885E8511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05FD-533E-4025-95E4-261AB25A22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1AD-4713-4817-8C9B-C170172518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B5F-BAA8-4399-A254-675AA09A8E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1A2-4BA6-457C-BA5D-80068D8E7D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B50-E878-4382-AF8A-B977D1A539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93A-6D6B-40A8-A88E-B177B096C0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A7A-DAF8-40F7-897E-526D7F386A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B11-FEA9-4901-8818-A15625DEE88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076D-BF83-4998-A9CA-5BEFD17120E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4C75-0E6D-49D5-B15F-794FC4CA84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CCD-B46F-4ABF-9F00-7E73009DAE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5DB4-4CD3-44C9-92D6-2D55876322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7F4-7146-4496-A882-4E2EB546DE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Box 1"/>
          <p:cNvSpPr/>
          <p:nvPr/>
        </p:nvSpPr>
        <p:spPr>
          <a:xfrm>
            <a:off x="2088360" y="206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WER B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8" name="图片 1" descr=""/>
          <p:cNvPicPr/>
          <p:nvPr/>
        </p:nvPicPr>
        <p:blipFill>
          <a:blip r:embed="rId1"/>
          <a:stretch/>
        </p:blipFill>
        <p:spPr>
          <a:xfrm>
            <a:off x="2590920" y="2030400"/>
            <a:ext cx="3962160" cy="3173400"/>
          </a:xfrm>
          <a:prstGeom prst="rect">
            <a:avLst/>
          </a:prstGeom>
          <a:ln w="0">
            <a:noFill/>
          </a:ln>
        </p:spPr>
      </p:pic>
      <p:sp>
        <p:nvSpPr>
          <p:cNvPr id="6439" name="TextBox 1"/>
          <p:cNvSpPr/>
          <p:nvPr/>
        </p:nvSpPr>
        <p:spPr>
          <a:xfrm>
            <a:off x="3146040" y="1050840"/>
            <a:ext cx="239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Manual Mod.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gnetic wireless Solar Power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TextBox 1"/>
          <p:cNvSpPr/>
          <p:nvPr/>
        </p:nvSpPr>
        <p:spPr>
          <a:xfrm>
            <a:off x="2602440" y="5467320"/>
            <a:ext cx="473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charging is only an emergency charging method, and the efficiency of so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els is constrained by natural conditions such as day and night, season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graphic latitude, altitude, as well as random factors like clear or clou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, rain, etc. Please do not rely on solar energy as the primary mea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. For everyday use, kindly use the charging cable provided by u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 the product through the adap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1" name="图片 1" descr=""/>
          <p:cNvPicPr/>
          <p:nvPr/>
        </p:nvPicPr>
        <p:blipFill>
          <a:blip r:embed="rId1"/>
          <a:stretch/>
        </p:blipFill>
        <p:spPr>
          <a:xfrm>
            <a:off x="2873520" y="1641600"/>
            <a:ext cx="4763880" cy="3749400"/>
          </a:xfrm>
          <a:prstGeom prst="rect">
            <a:avLst/>
          </a:prstGeom>
          <a:ln w="0">
            <a:noFill/>
          </a:ln>
        </p:spPr>
      </p:pic>
      <p:sp>
        <p:nvSpPr>
          <p:cNvPr id="6442" name="文本框 3"/>
          <p:cNvSpPr/>
          <p:nvPr/>
        </p:nvSpPr>
        <p:spPr>
          <a:xfrm>
            <a:off x="222120" y="2830680"/>
            <a:ext cx="8156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Product Spec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el No.: 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ttery Type: Rechargeable Lithium-ion Polymer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lar Charging Input:5.5V/100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put(Type-C): 5V⎓2A; 9V⎓2A; 2V⎓1.5A; (PD18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USB-A): 5V⎓3A; 9V⎓2A; 12V⎓1.5A; 5V⎓4.5A; (SCP22.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Type-C): 5V⎓3A; 9V⎓2.22A; 12V⎓1.66A; (PD20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 (Wireless charging): 5W; 10W; 15W; (1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 Time: About 3-4 hours to fill up (using PD18W 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ing Temperature: 0°C-50°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Size: (L)108×(W)69×(H)22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Weight: ≈207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TextBox 1"/>
          <p:cNvSpPr/>
          <p:nvPr/>
        </p:nvSpPr>
        <p:spPr>
          <a:xfrm>
            <a:off x="368280" y="320760"/>
            <a:ext cx="56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(USB-A)                ② Input/Outp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-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）     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D battery capacity indicator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st Charge Indicator      ⑤ Switch button                       ⑥ Wireless discharge area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⑦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文本框 3"/>
          <p:cNvSpPr/>
          <p:nvPr/>
        </p:nvSpPr>
        <p:spPr>
          <a:xfrm>
            <a:off x="160200" y="2532240"/>
            <a:ext cx="815832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. Store electricity in this mobil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1) Charge the power bank through power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oose a regular charging cable, connect the corresponding connector to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rresponding input port of this product, and connect the USB connector to the pow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apter of your mobile phone. The LED indicator light flashes during charging. After 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, the 4 LED power indicator lights are always on. Please stop. Pow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2) Charge the power bank through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t the power bank's solar panel under the sunlight's vertical irradiation or sun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vironment (Avoid high temperature, battery may damaged under high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dition), the power bank will charge itself by absorbing the sunlight, the solar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or become green at this moment, that means the power banks is being charg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nl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TextBox 1"/>
          <p:cNvSpPr/>
          <p:nvPr/>
        </p:nvSpPr>
        <p:spPr>
          <a:xfrm>
            <a:off x="205560" y="320760"/>
            <a:ext cx="505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nstructions for u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A single short press of the switch displays the remaining power of the mob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4 LED power indicators respectively indicate the battery capacity status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TextBox 1"/>
          <p:cNvSpPr/>
          <p:nvPr/>
        </p:nvSpPr>
        <p:spPr>
          <a:xfrm>
            <a:off x="5182920" y="4322880"/>
            <a:ext cx="3948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ca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 find any undesirable phenomena such as bulging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kage of the product during use, please stop using it immediat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7" name="图片 1" descr=""/>
          <p:cNvPicPr/>
          <p:nvPr/>
        </p:nvPicPr>
        <p:blipFill>
          <a:blip r:embed="rId1"/>
          <a:stretch/>
        </p:blipFill>
        <p:spPr>
          <a:xfrm>
            <a:off x="195120" y="1171440"/>
            <a:ext cx="4270680" cy="1486080"/>
          </a:xfrm>
          <a:prstGeom prst="rect">
            <a:avLst/>
          </a:prstGeom>
          <a:ln w="0">
            <a:noFill/>
          </a:ln>
        </p:spPr>
      </p:pic>
      <p:pic>
        <p:nvPicPr>
          <p:cNvPr id="6448" name="图片 2" descr=""/>
          <p:cNvPicPr/>
          <p:nvPr/>
        </p:nvPicPr>
        <p:blipFill>
          <a:blip r:embed="rId2"/>
          <a:stretch/>
        </p:blipFill>
        <p:spPr>
          <a:xfrm>
            <a:off x="5273640" y="5045040"/>
            <a:ext cx="3606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TextBox 1"/>
          <p:cNvSpPr/>
          <p:nvPr/>
        </p:nvSpPr>
        <p:spPr>
          <a:xfrm>
            <a:off x="212400" y="320760"/>
            <a:ext cx="5319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 This mobile power supply charges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whether the charging voltage of digital products matches the output voltage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Power supply for mobile phones, tablets and oth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ilt-in cable or output port of this mobile power supply to charge digital produc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ED indicator light will light up. When the digital products are fully charged, please sto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ying power to the digital de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0" name="图片 1" descr=""/>
          <p:cNvPicPr/>
          <p:nvPr/>
        </p:nvPicPr>
        <p:blipFill>
          <a:blip r:embed="rId1"/>
          <a:stretch/>
        </p:blipFill>
        <p:spPr>
          <a:xfrm>
            <a:off x="501480" y="2209680"/>
            <a:ext cx="5239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TextBox 1"/>
          <p:cNvSpPr/>
          <p:nvPr/>
        </p:nvSpPr>
        <p:spPr>
          <a:xfrm>
            <a:off x="195120" y="320760"/>
            <a:ext cx="724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 Power supply for wirelessly charged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ly place the digital product that supports wireless charging in the magnetic 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 area, and fit it closely with the digital product to automatically enter the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. When the digital product is fully charged, please stop powering the digital de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TextBox 1"/>
          <p:cNvSpPr/>
          <p:nvPr/>
        </p:nvSpPr>
        <p:spPr>
          <a:xfrm>
            <a:off x="279360" y="3240000"/>
            <a:ext cx="598968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ireless charger is not compatible with non-Magsafe phone cases, such as Otterb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ender phone c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adapters with outputs below 5V/1A (5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wireless chargers to charge is more convenient than using wired chargers, but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ited by current wireless technology. Therefore, charging speed is slower than wi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temperature will reduce the charging speed and limit the power. This is a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occurs with all wireless chargers. It is recommended to charge the device in 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vironment with a temperature below 25℃/77℉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osition of the mobile phone protective case and the device on the wireless char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affect the charging speed. The further away from the center of the wireless charger,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wer the charging spe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3" name="图片 1" descr=""/>
          <p:cNvPicPr/>
          <p:nvPr/>
        </p:nvPicPr>
        <p:blipFill>
          <a:blip r:embed="rId1"/>
          <a:stretch/>
        </p:blipFill>
        <p:spPr>
          <a:xfrm>
            <a:off x="449280" y="1027080"/>
            <a:ext cx="4017960" cy="2127240"/>
          </a:xfrm>
          <a:prstGeom prst="rect">
            <a:avLst/>
          </a:prstGeom>
          <a:ln w="0">
            <a:noFill/>
          </a:ln>
        </p:spPr>
      </p:pic>
      <p:sp>
        <p:nvSpPr>
          <p:cNvPr id="6454" name="TextBox 1"/>
          <p:cNvSpPr/>
          <p:nvPr/>
        </p:nvSpPr>
        <p:spPr>
          <a:xfrm>
            <a:off x="279360" y="5457960"/>
            <a:ext cx="5989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power of this mobile power supply is too low, the battery indicator light flash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power output is disabl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Box 1"/>
          <p:cNvSpPr/>
          <p:nvPr/>
        </p:nvSpPr>
        <p:spPr>
          <a:xfrm>
            <a:off x="195120" y="320760"/>
            <a:ext cx="669636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mportant safety instruction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using this product, it is important to take basic precautions, inclu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this product in a cool and dry pl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store this product in a high temperature or humid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a power supply or charger not recommended or sold by the manufacturer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may result in a risk of fire or personal 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temperature should be between 32 to 104°F (0 to 40°C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disassemble the product. If this product requires service or repair, please s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fied repair personnel. Improper reassembly may result in risk of fire or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is product is not used for a long time, it should be charged and discharged ev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mont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duct may generate heat while charging. This is normal and nothing to wor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normal operating conditions, battery performance will gradually decline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expose the product to fire or high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harmful chemicals or detergents to clean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per use, dropping or excessive force may cause damage to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sposing of used batteries, please separate batteries with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chemical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a discharged battery may cause fire or smo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ion: There is a risk of explosion if the battery is replaced with the wrong ty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: Batteries (battery pack or installed) must not be exposed to excessive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sunlight or fi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ttery may explode or leak flammable liquid or gas under extremely low press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TextBox 1"/>
          <p:cNvSpPr/>
          <p:nvPr/>
        </p:nvSpPr>
        <p:spPr>
          <a:xfrm>
            <a:off x="279360" y="4665600"/>
            <a:ext cx="5989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Warn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is product in accordance with the enclosed instructions. Ignoring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s may cause the product to catch fire or other damage. Keep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out of the reach of child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矩形 1"/>
          <p:cNvSpPr/>
          <p:nvPr/>
        </p:nvSpPr>
        <p:spPr>
          <a:xfrm>
            <a:off x="378000" y="5398920"/>
            <a:ext cx="4603680" cy="1374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8" name="图片 3" descr=""/>
          <p:cNvPicPr/>
          <p:nvPr/>
        </p:nvPicPr>
        <p:blipFill>
          <a:blip r:embed="rId1"/>
          <a:stretch/>
        </p:blipFill>
        <p:spPr>
          <a:xfrm>
            <a:off x="495360" y="5511960"/>
            <a:ext cx="660240" cy="811080"/>
          </a:xfrm>
          <a:prstGeom prst="rect">
            <a:avLst/>
          </a:prstGeom>
          <a:ln w="0">
            <a:noFill/>
          </a:ln>
        </p:spPr>
      </p:pic>
      <p:sp>
        <p:nvSpPr>
          <p:cNvPr id="6459" name="文本框 4"/>
          <p:cNvSpPr/>
          <p:nvPr/>
        </p:nvSpPr>
        <p:spPr>
          <a:xfrm>
            <a:off x="1378080" y="5572080"/>
            <a:ext cx="3508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ymbol means that the product must not be dis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as domestic waste, and should be handed over to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priate collection center for recyc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 disposal and recycling help protect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, human health and the environment. 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文本框 5"/>
          <p:cNvSpPr/>
          <p:nvPr/>
        </p:nvSpPr>
        <p:spPr>
          <a:xfrm>
            <a:off x="378000" y="637524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municipality for more information on how to dispose of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LENOVO</cp:lastModifiedBy>
  <dcterms:modified xsi:type="dcterms:W3CDTF">2024-07-09T10:54:5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B22E99353D4A72A54DA234F32AC15E_12</vt:lpwstr>
  </property>
  <property fmtid="{D5CDD505-2E9C-101B-9397-08002B2CF9AE}" pid="3" name="KSOProductBuildVer">
    <vt:lpwstr>2052-12.1.0.17147</vt:lpwstr>
  </property>
</Properties>
</file>